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jpeg" ContentType="image/jpeg"/>
  <Override PartName="/ppt/media/image3.jpeg" ContentType="image/jpeg"/>
  <Override PartName="/ppt/media/image6.wmf" ContentType="image/x-wmf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5A9F0-0C5C-4DB8-AF7D-7CE04B91CF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750960" y="301680"/>
            <a:ext cx="5302080" cy="397656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448920" y="4503600"/>
            <a:ext cx="59101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is more than one place that a call can aband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a VRU promp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the ag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erent call centers have different nee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750960" y="301680"/>
            <a:ext cx="5302080" cy="397656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448920" y="4503600"/>
            <a:ext cx="59101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is more than one place that a call can aband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a VRU promp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the ag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erent call centers have different nee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750960" y="301680"/>
            <a:ext cx="5302080" cy="397656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48920" y="4503600"/>
            <a:ext cx="59101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is more than one place that a call can aband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a VRU promp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the ag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erent call centers have different nee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750960" y="301680"/>
            <a:ext cx="5302080" cy="397656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448920" y="4503600"/>
            <a:ext cx="59101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is more than one place that a call can aband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a VRU promp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the ag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erent call centers have different nee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750960" y="301680"/>
            <a:ext cx="5302080" cy="397656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448920" y="4503600"/>
            <a:ext cx="59101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is more than one place that a call can aband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a VRU promp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the ag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erent call centers have different nee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750960" y="301680"/>
            <a:ext cx="5302080" cy="397656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448920" y="4503600"/>
            <a:ext cx="59101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is more than one place that a call can aband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a VRU promp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the ag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erent call centers have different nee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750960" y="301680"/>
            <a:ext cx="5302080" cy="397656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48920" y="4503600"/>
            <a:ext cx="59101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is more than one place that a call can aband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a VRU promp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the ag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erent call centers have different nee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750960" y="301680"/>
            <a:ext cx="5302080" cy="397656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448920" y="4503600"/>
            <a:ext cx="59101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is more than one place that a call can aband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a VRU promp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the ag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erent call centers have different nee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55200" y="3049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55560" y="152064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55560" y="338652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55200" y="3049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55560" y="15206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4640" y="15206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55560" y="338652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4640" y="338652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55200" y="3049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55560" y="15206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40440" y="15206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5320" y="15206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55560" y="338652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40440" y="338652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5320" y="338652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55200" y="3049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655560" y="1520640"/>
            <a:ext cx="7940880" cy="357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55200" y="3049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55560" y="1520640"/>
            <a:ext cx="7940880" cy="35715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55200" y="3049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55560" y="1520640"/>
            <a:ext cx="3875040" cy="35715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24640" y="1520640"/>
            <a:ext cx="3875040" cy="35715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55200" y="3049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55200" y="304920"/>
            <a:ext cx="8145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55200" y="3049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55560" y="15206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24640" y="1520640"/>
            <a:ext cx="3875040" cy="35715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55560" y="338652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55200" y="3049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55560" y="1520640"/>
            <a:ext cx="7940880" cy="357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55200" y="3049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55560" y="1520640"/>
            <a:ext cx="3875040" cy="35715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24640" y="15206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724640" y="338652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55200" y="3049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55560" y="15206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24640" y="15206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55560" y="338652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55200" y="3049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55560" y="152064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55560" y="338652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55200" y="3049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55560" y="15206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724640" y="15206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55560" y="338652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724640" y="338652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55200" y="3049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55560" y="15206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40440" y="15206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5320" y="15206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655560" y="338652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40440" y="338652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5320" y="338652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55200" y="3049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55560" y="1520640"/>
            <a:ext cx="7940880" cy="35715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55200" y="3049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55560" y="1520640"/>
            <a:ext cx="3875040" cy="35715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4640" y="1520640"/>
            <a:ext cx="3875040" cy="35715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55200" y="3049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55200" y="304920"/>
            <a:ext cx="8145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55200" y="3049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55560" y="15206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4640" y="1520640"/>
            <a:ext cx="3875040" cy="35715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55560" y="338652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55200" y="3049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55560" y="1520640"/>
            <a:ext cx="3875040" cy="35715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4640" y="15206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4640" y="338652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55200" y="3049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55560" y="15206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4640" y="15206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55560" y="338652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55200" y="3049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177840"/>
          </a:xfrm>
          <a:prstGeom prst="rect">
            <a:avLst/>
          </a:prstGeom>
          <a:solidFill>
            <a:srgbClr val="015f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161360" y="6672240"/>
            <a:ext cx="200124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© 2007 Cisco Systems, Inc. All rights reserved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74840" y="6672240"/>
            <a:ext cx="87516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Cisco Confidential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93680" y="6565680"/>
            <a:ext cx="961920" cy="2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Session ID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Presentation_ID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8386920" y="6626520"/>
            <a:ext cx="73944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5A7F6262-0279-4E50-B389-90D6BB187D4A}" type="slidenum">
              <a:rPr b="0" lang="en-US" sz="1000" spc="-1" strike="noStrike">
                <a:solidFill>
                  <a:srgbClr val="d3d3d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55560" y="1520640"/>
            <a:ext cx="7940880" cy="35715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97000"/>
          </a:bodyPr>
          <a:p>
            <a:pPr marL="229320" indent="-2293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728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8668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1644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55664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55664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55664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 rot="16200000">
            <a:off x="3200400" y="-1600200"/>
            <a:ext cx="2743200" cy="9144000"/>
          </a:xfrm>
          <a:prstGeom prst="rect">
            <a:avLst/>
          </a:prstGeom>
          <a:solidFill>
            <a:srgbClr val="015f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720" rIns="72720" tIns="36360" bIns="36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61360" y="6672240"/>
            <a:ext cx="200124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© 2007 Cisco Systems, Inc. All rights reserved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174840" y="6672240"/>
            <a:ext cx="87516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Cisco Confidential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93680" y="6565680"/>
            <a:ext cx="961920" cy="2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Session ID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Presentation_ID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386920" y="6626520"/>
            <a:ext cx="73944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7A580677-FBCE-42AB-85BE-883A65AC43C5}" type="slidenum">
              <a:rPr b="0" lang="en-US" sz="1000" spc="-1" strike="noStrike">
                <a:solidFill>
                  <a:srgbClr val="d3d3d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609480" y="528480"/>
            <a:ext cx="1444680" cy="763560"/>
            <a:chOff x="609480" y="528480"/>
            <a:chExt cx="1444680" cy="763560"/>
          </a:xfrm>
        </p:grpSpPr>
        <p:sp>
          <p:nvSpPr>
            <p:cNvPr id="49" name=""/>
            <p:cNvSpPr/>
            <p:nvPr/>
          </p:nvSpPr>
          <p:spPr>
            <a:xfrm>
              <a:off x="1016280" y="1035360"/>
              <a:ext cx="65880" cy="249480"/>
            </a:xfrm>
            <a:prstGeom prst="rect">
              <a:avLst/>
            </a:prstGeom>
            <a:solidFill>
              <a:srgbClr val="b2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00400" y="1028880"/>
              <a:ext cx="190800" cy="263160"/>
            </a:xfrm>
            <a:custGeom>
              <a:avLst/>
              <a:gdLst/>
              <a:ahLst/>
              <a:rect l="l" t="t" r="r" b="b"/>
              <a:pathLst>
                <a:path w="58" h="80">
                  <a:moveTo>
                    <a:pt x="58" y="24"/>
                  </a:moveTo>
                  <a:cubicBezTo>
                    <a:pt x="58" y="23"/>
                    <a:pt x="51" y="20"/>
                    <a:pt x="42" y="20"/>
                  </a:cubicBezTo>
                  <a:cubicBezTo>
                    <a:pt x="30" y="20"/>
                    <a:pt x="21" y="28"/>
                    <a:pt x="21" y="40"/>
                  </a:cubicBezTo>
                  <a:cubicBezTo>
                    <a:pt x="21" y="51"/>
                    <a:pt x="29" y="60"/>
                    <a:pt x="42" y="60"/>
                  </a:cubicBezTo>
                  <a:cubicBezTo>
                    <a:pt x="51" y="60"/>
                    <a:pt x="57" y="57"/>
                    <a:pt x="58" y="56"/>
                  </a:cubicBezTo>
                  <a:cubicBezTo>
                    <a:pt x="58" y="77"/>
                    <a:pt x="58" y="77"/>
                    <a:pt x="58" y="77"/>
                  </a:cubicBezTo>
                  <a:cubicBezTo>
                    <a:pt x="56" y="78"/>
                    <a:pt x="49" y="80"/>
                    <a:pt x="41" y="80"/>
                  </a:cubicBezTo>
                  <a:cubicBezTo>
                    <a:pt x="19" y="80"/>
                    <a:pt x="0" y="65"/>
                    <a:pt x="0" y="40"/>
                  </a:cubicBezTo>
                  <a:cubicBezTo>
                    <a:pt x="0" y="17"/>
                    <a:pt x="17" y="0"/>
                    <a:pt x="41" y="0"/>
                  </a:cubicBezTo>
                  <a:cubicBezTo>
                    <a:pt x="50" y="0"/>
                    <a:pt x="56" y="3"/>
                    <a:pt x="58" y="3"/>
                  </a:cubicBezTo>
                  <a:lnTo>
                    <a:pt x="58" y="24"/>
                  </a:lnTo>
                  <a:close/>
                </a:path>
              </a:pathLst>
            </a:custGeom>
            <a:solidFill>
              <a:srgbClr val="b2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40520" y="1028880"/>
              <a:ext cx="190800" cy="263160"/>
            </a:xfrm>
            <a:custGeom>
              <a:avLst/>
              <a:gdLst/>
              <a:ahLst/>
              <a:rect l="l" t="t" r="r" b="b"/>
              <a:pathLst>
                <a:path w="58" h="80">
                  <a:moveTo>
                    <a:pt x="58" y="24"/>
                  </a:moveTo>
                  <a:cubicBezTo>
                    <a:pt x="57" y="23"/>
                    <a:pt x="51" y="20"/>
                    <a:pt x="42" y="20"/>
                  </a:cubicBezTo>
                  <a:cubicBezTo>
                    <a:pt x="29" y="20"/>
                    <a:pt x="21" y="28"/>
                    <a:pt x="21" y="40"/>
                  </a:cubicBezTo>
                  <a:cubicBezTo>
                    <a:pt x="21" y="51"/>
                    <a:pt x="29" y="60"/>
                    <a:pt x="42" y="60"/>
                  </a:cubicBezTo>
                  <a:cubicBezTo>
                    <a:pt x="51" y="60"/>
                    <a:pt x="57" y="57"/>
                    <a:pt x="58" y="56"/>
                  </a:cubicBezTo>
                  <a:cubicBezTo>
                    <a:pt x="58" y="77"/>
                    <a:pt x="58" y="77"/>
                    <a:pt x="58" y="77"/>
                  </a:cubicBezTo>
                  <a:cubicBezTo>
                    <a:pt x="56" y="78"/>
                    <a:pt x="49" y="80"/>
                    <a:pt x="40" y="80"/>
                  </a:cubicBezTo>
                  <a:cubicBezTo>
                    <a:pt x="19" y="80"/>
                    <a:pt x="0" y="65"/>
                    <a:pt x="0" y="40"/>
                  </a:cubicBezTo>
                  <a:cubicBezTo>
                    <a:pt x="0" y="17"/>
                    <a:pt x="17" y="0"/>
                    <a:pt x="40" y="0"/>
                  </a:cubicBezTo>
                  <a:cubicBezTo>
                    <a:pt x="49" y="0"/>
                    <a:pt x="56" y="3"/>
                    <a:pt x="58" y="3"/>
                  </a:cubicBezTo>
                  <a:lnTo>
                    <a:pt x="58" y="24"/>
                  </a:lnTo>
                  <a:close/>
                </a:path>
              </a:pathLst>
            </a:custGeom>
            <a:solidFill>
              <a:srgbClr val="b2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660320" y="1028880"/>
              <a:ext cx="262080" cy="263160"/>
            </a:xfrm>
            <a:custGeom>
              <a:avLst/>
              <a:gdLst/>
              <a:ahLst/>
              <a:rect l="l" t="t" r="r" b="b"/>
              <a:pathLst>
                <a:path w="80" h="80">
                  <a:moveTo>
                    <a:pt x="80" y="40"/>
                  </a:moveTo>
                  <a:cubicBezTo>
                    <a:pt x="80" y="62"/>
                    <a:pt x="64" y="80"/>
                    <a:pt x="40" y="80"/>
                  </a:cubicBezTo>
                  <a:cubicBezTo>
                    <a:pt x="16" y="80"/>
                    <a:pt x="0" y="62"/>
                    <a:pt x="0" y="40"/>
                  </a:cubicBezTo>
                  <a:cubicBezTo>
                    <a:pt x="0" y="18"/>
                    <a:pt x="16" y="0"/>
                    <a:pt x="40" y="0"/>
                  </a:cubicBezTo>
                  <a:cubicBezTo>
                    <a:pt x="64" y="0"/>
                    <a:pt x="80" y="18"/>
                    <a:pt x="80" y="40"/>
                  </a:cubicBezTo>
                  <a:moveTo>
                    <a:pt x="40" y="20"/>
                  </a:moveTo>
                  <a:cubicBezTo>
                    <a:pt x="29" y="20"/>
                    <a:pt x="20" y="29"/>
                    <a:pt x="20" y="40"/>
                  </a:cubicBezTo>
                  <a:cubicBezTo>
                    <a:pt x="20" y="51"/>
                    <a:pt x="29" y="60"/>
                    <a:pt x="40" y="60"/>
                  </a:cubicBezTo>
                  <a:cubicBezTo>
                    <a:pt x="51" y="60"/>
                    <a:pt x="60" y="51"/>
                    <a:pt x="60" y="40"/>
                  </a:cubicBezTo>
                  <a:cubicBezTo>
                    <a:pt x="60" y="29"/>
                    <a:pt x="51" y="20"/>
                    <a:pt x="40" y="20"/>
                  </a:cubicBezTo>
                </a:path>
              </a:pathLst>
            </a:custGeom>
            <a:solidFill>
              <a:srgbClr val="b2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167480" y="1028880"/>
              <a:ext cx="170640" cy="263160"/>
            </a:xfrm>
            <a:custGeom>
              <a:avLst/>
              <a:gdLst/>
              <a:ahLst/>
              <a:rect l="l" t="t" r="r" b="b"/>
              <a:pathLst>
                <a:path w="52" h="80">
                  <a:moveTo>
                    <a:pt x="47" y="19"/>
                  </a:moveTo>
                  <a:cubicBezTo>
                    <a:pt x="47" y="19"/>
                    <a:pt x="38" y="17"/>
                    <a:pt x="32" y="17"/>
                  </a:cubicBezTo>
                  <a:cubicBezTo>
                    <a:pt x="24" y="17"/>
                    <a:pt x="20" y="19"/>
                    <a:pt x="20" y="23"/>
                  </a:cubicBezTo>
                  <a:cubicBezTo>
                    <a:pt x="20" y="28"/>
                    <a:pt x="26" y="29"/>
                    <a:pt x="29" y="30"/>
                  </a:cubicBezTo>
                  <a:cubicBezTo>
                    <a:pt x="34" y="32"/>
                    <a:pt x="34" y="32"/>
                    <a:pt x="34" y="32"/>
                  </a:cubicBezTo>
                  <a:cubicBezTo>
                    <a:pt x="47" y="36"/>
                    <a:pt x="52" y="45"/>
                    <a:pt x="52" y="54"/>
                  </a:cubicBezTo>
                  <a:cubicBezTo>
                    <a:pt x="52" y="73"/>
                    <a:pt x="35" y="80"/>
                    <a:pt x="21" y="80"/>
                  </a:cubicBezTo>
                  <a:cubicBezTo>
                    <a:pt x="10" y="80"/>
                    <a:pt x="1" y="78"/>
                    <a:pt x="0" y="77"/>
                  </a:cubicBezTo>
                  <a:cubicBezTo>
                    <a:pt x="0" y="60"/>
                    <a:pt x="0" y="60"/>
                    <a:pt x="0" y="60"/>
                  </a:cubicBezTo>
                  <a:cubicBezTo>
                    <a:pt x="2" y="60"/>
                    <a:pt x="10" y="63"/>
                    <a:pt x="18" y="63"/>
                  </a:cubicBezTo>
                  <a:cubicBezTo>
                    <a:pt x="28" y="63"/>
                    <a:pt x="32" y="60"/>
                    <a:pt x="32" y="56"/>
                  </a:cubicBezTo>
                  <a:cubicBezTo>
                    <a:pt x="32" y="52"/>
                    <a:pt x="28" y="49"/>
                    <a:pt x="23" y="48"/>
                  </a:cubicBezTo>
                  <a:cubicBezTo>
                    <a:pt x="22" y="48"/>
                    <a:pt x="21" y="47"/>
                    <a:pt x="19" y="47"/>
                  </a:cubicBezTo>
                  <a:cubicBezTo>
                    <a:pt x="9" y="43"/>
                    <a:pt x="0" y="37"/>
                    <a:pt x="0" y="24"/>
                  </a:cubicBezTo>
                  <a:cubicBezTo>
                    <a:pt x="0" y="10"/>
                    <a:pt x="10" y="0"/>
                    <a:pt x="28" y="0"/>
                  </a:cubicBezTo>
                  <a:cubicBezTo>
                    <a:pt x="37" y="0"/>
                    <a:pt x="46" y="3"/>
                    <a:pt x="47" y="3"/>
                  </a:cubicBezTo>
                  <a:lnTo>
                    <a:pt x="47" y="19"/>
                  </a:lnTo>
                  <a:close/>
                </a:path>
              </a:pathLst>
            </a:custGeom>
            <a:solidFill>
              <a:srgbClr val="b2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09480" y="732960"/>
              <a:ext cx="61920" cy="128160"/>
            </a:xfrm>
            <a:custGeom>
              <a:avLst/>
              <a:gdLst/>
              <a:ahLst/>
              <a:rect l="l" t="t" r="r" b="b"/>
              <a:pathLst>
                <a:path w="19" h="39">
                  <a:moveTo>
                    <a:pt x="19" y="10"/>
                  </a:moveTo>
                  <a:cubicBezTo>
                    <a:pt x="19" y="4"/>
                    <a:pt x="15" y="0"/>
                    <a:pt x="10" y="0"/>
                  </a:cubicBezTo>
                  <a:cubicBezTo>
                    <a:pt x="4" y="0"/>
                    <a:pt x="0" y="4"/>
                    <a:pt x="0" y="10"/>
                  </a:cubicBezTo>
                  <a:cubicBezTo>
                    <a:pt x="0" y="30"/>
                    <a:pt x="0" y="30"/>
                    <a:pt x="0" y="30"/>
                  </a:cubicBezTo>
                  <a:cubicBezTo>
                    <a:pt x="0" y="35"/>
                    <a:pt x="4" y="39"/>
                    <a:pt x="10" y="39"/>
                  </a:cubicBezTo>
                  <a:cubicBezTo>
                    <a:pt x="15" y="39"/>
                    <a:pt x="19" y="35"/>
                    <a:pt x="19" y="30"/>
                  </a:cubicBezTo>
                  <a:lnTo>
                    <a:pt x="19" y="10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783360" y="646920"/>
              <a:ext cx="61920" cy="214200"/>
            </a:xfrm>
            <a:custGeom>
              <a:avLst/>
              <a:gdLst/>
              <a:ahLst/>
              <a:rect l="l" t="t" r="r" b="b"/>
              <a:pathLst>
                <a:path w="19" h="65">
                  <a:moveTo>
                    <a:pt x="19" y="9"/>
                  </a:moveTo>
                  <a:cubicBezTo>
                    <a:pt x="19" y="4"/>
                    <a:pt x="14" y="0"/>
                    <a:pt x="9" y="0"/>
                  </a:cubicBezTo>
                  <a:cubicBezTo>
                    <a:pt x="4" y="0"/>
                    <a:pt x="0" y="4"/>
                    <a:pt x="0" y="9"/>
                  </a:cubicBezTo>
                  <a:cubicBezTo>
                    <a:pt x="0" y="56"/>
                    <a:pt x="0" y="56"/>
                    <a:pt x="0" y="56"/>
                  </a:cubicBezTo>
                  <a:cubicBezTo>
                    <a:pt x="0" y="61"/>
                    <a:pt x="4" y="65"/>
                    <a:pt x="9" y="65"/>
                  </a:cubicBezTo>
                  <a:cubicBezTo>
                    <a:pt x="14" y="65"/>
                    <a:pt x="19" y="61"/>
                    <a:pt x="19" y="56"/>
                  </a:cubicBezTo>
                  <a:lnTo>
                    <a:pt x="19" y="9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954360" y="528480"/>
              <a:ext cx="61920" cy="394560"/>
            </a:xfrm>
            <a:custGeom>
              <a:avLst/>
              <a:gdLst/>
              <a:ahLst/>
              <a:rect l="l" t="t" r="r" b="b"/>
              <a:pathLst>
                <a:path w="19" h="120">
                  <a:moveTo>
                    <a:pt x="19" y="9"/>
                  </a:moveTo>
                  <a:cubicBezTo>
                    <a:pt x="19" y="4"/>
                    <a:pt x="15" y="0"/>
                    <a:pt x="10" y="0"/>
                  </a:cubicBezTo>
                  <a:cubicBezTo>
                    <a:pt x="5" y="0"/>
                    <a:pt x="0" y="4"/>
                    <a:pt x="0" y="9"/>
                  </a:cubicBezTo>
                  <a:cubicBezTo>
                    <a:pt x="0" y="111"/>
                    <a:pt x="0" y="111"/>
                    <a:pt x="0" y="111"/>
                  </a:cubicBezTo>
                  <a:cubicBezTo>
                    <a:pt x="0" y="116"/>
                    <a:pt x="5" y="120"/>
                    <a:pt x="10" y="120"/>
                  </a:cubicBezTo>
                  <a:cubicBezTo>
                    <a:pt x="15" y="120"/>
                    <a:pt x="19" y="116"/>
                    <a:pt x="19" y="111"/>
                  </a:cubicBezTo>
                  <a:lnTo>
                    <a:pt x="19" y="9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128240" y="646920"/>
              <a:ext cx="61920" cy="214200"/>
            </a:xfrm>
            <a:custGeom>
              <a:avLst/>
              <a:gdLst/>
              <a:ahLst/>
              <a:rect l="l" t="t" r="r" b="b"/>
              <a:pathLst>
                <a:path w="19" h="65">
                  <a:moveTo>
                    <a:pt x="19" y="9"/>
                  </a:moveTo>
                  <a:cubicBezTo>
                    <a:pt x="19" y="4"/>
                    <a:pt x="15" y="0"/>
                    <a:pt x="9" y="0"/>
                  </a:cubicBezTo>
                  <a:cubicBezTo>
                    <a:pt x="4" y="0"/>
                    <a:pt x="0" y="4"/>
                    <a:pt x="0" y="9"/>
                  </a:cubicBezTo>
                  <a:cubicBezTo>
                    <a:pt x="0" y="56"/>
                    <a:pt x="0" y="56"/>
                    <a:pt x="0" y="56"/>
                  </a:cubicBezTo>
                  <a:cubicBezTo>
                    <a:pt x="0" y="61"/>
                    <a:pt x="4" y="65"/>
                    <a:pt x="9" y="65"/>
                  </a:cubicBezTo>
                  <a:cubicBezTo>
                    <a:pt x="15" y="65"/>
                    <a:pt x="19" y="61"/>
                    <a:pt x="19" y="56"/>
                  </a:cubicBezTo>
                  <a:lnTo>
                    <a:pt x="19" y="9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298520" y="732960"/>
              <a:ext cx="65880" cy="128160"/>
            </a:xfrm>
            <a:custGeom>
              <a:avLst/>
              <a:gdLst/>
              <a:ahLst/>
              <a:rect l="l" t="t" r="r" b="b"/>
              <a:pathLst>
                <a:path w="20" h="39">
                  <a:moveTo>
                    <a:pt x="20" y="10"/>
                  </a:moveTo>
                  <a:cubicBezTo>
                    <a:pt x="20" y="4"/>
                    <a:pt x="15" y="0"/>
                    <a:pt x="10" y="0"/>
                  </a:cubicBezTo>
                  <a:cubicBezTo>
                    <a:pt x="5" y="0"/>
                    <a:pt x="0" y="4"/>
                    <a:pt x="0" y="10"/>
                  </a:cubicBezTo>
                  <a:cubicBezTo>
                    <a:pt x="0" y="30"/>
                    <a:pt x="0" y="30"/>
                    <a:pt x="0" y="30"/>
                  </a:cubicBezTo>
                  <a:cubicBezTo>
                    <a:pt x="0" y="35"/>
                    <a:pt x="5" y="39"/>
                    <a:pt x="10" y="39"/>
                  </a:cubicBezTo>
                  <a:cubicBezTo>
                    <a:pt x="15" y="39"/>
                    <a:pt x="20" y="35"/>
                    <a:pt x="20" y="30"/>
                  </a:cubicBezTo>
                  <a:lnTo>
                    <a:pt x="20" y="10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472400" y="646920"/>
              <a:ext cx="62640" cy="214200"/>
            </a:xfrm>
            <a:custGeom>
              <a:avLst/>
              <a:gdLst/>
              <a:ahLst/>
              <a:rect l="l" t="t" r="r" b="b"/>
              <a:pathLst>
                <a:path w="19" h="65">
                  <a:moveTo>
                    <a:pt x="19" y="9"/>
                  </a:moveTo>
                  <a:cubicBezTo>
                    <a:pt x="19" y="4"/>
                    <a:pt x="15" y="0"/>
                    <a:pt x="10" y="0"/>
                  </a:cubicBezTo>
                  <a:cubicBezTo>
                    <a:pt x="4" y="0"/>
                    <a:pt x="0" y="4"/>
                    <a:pt x="0" y="9"/>
                  </a:cubicBezTo>
                  <a:cubicBezTo>
                    <a:pt x="0" y="56"/>
                    <a:pt x="0" y="56"/>
                    <a:pt x="0" y="56"/>
                  </a:cubicBezTo>
                  <a:cubicBezTo>
                    <a:pt x="0" y="61"/>
                    <a:pt x="4" y="65"/>
                    <a:pt x="10" y="65"/>
                  </a:cubicBezTo>
                  <a:cubicBezTo>
                    <a:pt x="15" y="65"/>
                    <a:pt x="19" y="61"/>
                    <a:pt x="19" y="56"/>
                  </a:cubicBezTo>
                  <a:lnTo>
                    <a:pt x="19" y="9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646280" y="528480"/>
              <a:ext cx="62640" cy="394560"/>
            </a:xfrm>
            <a:custGeom>
              <a:avLst/>
              <a:gdLst/>
              <a:ahLst/>
              <a:rect l="l" t="t" r="r" b="b"/>
              <a:pathLst>
                <a:path w="19" h="120">
                  <a:moveTo>
                    <a:pt x="19" y="9"/>
                  </a:moveTo>
                  <a:cubicBezTo>
                    <a:pt x="19" y="4"/>
                    <a:pt x="15" y="0"/>
                    <a:pt x="9" y="0"/>
                  </a:cubicBezTo>
                  <a:cubicBezTo>
                    <a:pt x="4" y="0"/>
                    <a:pt x="0" y="4"/>
                    <a:pt x="0" y="9"/>
                  </a:cubicBezTo>
                  <a:cubicBezTo>
                    <a:pt x="0" y="111"/>
                    <a:pt x="0" y="111"/>
                    <a:pt x="0" y="111"/>
                  </a:cubicBezTo>
                  <a:cubicBezTo>
                    <a:pt x="0" y="116"/>
                    <a:pt x="4" y="120"/>
                    <a:pt x="9" y="120"/>
                  </a:cubicBezTo>
                  <a:cubicBezTo>
                    <a:pt x="15" y="120"/>
                    <a:pt x="19" y="116"/>
                    <a:pt x="19" y="111"/>
                  </a:cubicBezTo>
                  <a:lnTo>
                    <a:pt x="19" y="9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817280" y="646920"/>
              <a:ext cx="62640" cy="214200"/>
            </a:xfrm>
            <a:custGeom>
              <a:avLst/>
              <a:gdLst/>
              <a:ahLst/>
              <a:rect l="l" t="t" r="r" b="b"/>
              <a:pathLst>
                <a:path w="19" h="65">
                  <a:moveTo>
                    <a:pt x="19" y="9"/>
                  </a:moveTo>
                  <a:cubicBezTo>
                    <a:pt x="19" y="4"/>
                    <a:pt x="15" y="0"/>
                    <a:pt x="10" y="0"/>
                  </a:cubicBezTo>
                  <a:cubicBezTo>
                    <a:pt x="5" y="0"/>
                    <a:pt x="0" y="4"/>
                    <a:pt x="0" y="9"/>
                  </a:cubicBezTo>
                  <a:cubicBezTo>
                    <a:pt x="0" y="56"/>
                    <a:pt x="0" y="56"/>
                    <a:pt x="0" y="56"/>
                  </a:cubicBezTo>
                  <a:cubicBezTo>
                    <a:pt x="0" y="61"/>
                    <a:pt x="5" y="65"/>
                    <a:pt x="10" y="65"/>
                  </a:cubicBezTo>
                  <a:cubicBezTo>
                    <a:pt x="15" y="65"/>
                    <a:pt x="19" y="61"/>
                    <a:pt x="19" y="56"/>
                  </a:cubicBezTo>
                  <a:lnTo>
                    <a:pt x="19" y="9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991520" y="732960"/>
              <a:ext cx="62640" cy="128160"/>
            </a:xfrm>
            <a:custGeom>
              <a:avLst/>
              <a:gdLst/>
              <a:ahLst/>
              <a:rect l="l" t="t" r="r" b="b"/>
              <a:pathLst>
                <a:path w="19" h="39">
                  <a:moveTo>
                    <a:pt x="19" y="10"/>
                  </a:moveTo>
                  <a:cubicBezTo>
                    <a:pt x="19" y="4"/>
                    <a:pt x="15" y="0"/>
                    <a:pt x="9" y="0"/>
                  </a:cubicBezTo>
                  <a:cubicBezTo>
                    <a:pt x="4" y="0"/>
                    <a:pt x="0" y="4"/>
                    <a:pt x="0" y="10"/>
                  </a:cubicBezTo>
                  <a:cubicBezTo>
                    <a:pt x="0" y="30"/>
                    <a:pt x="0" y="30"/>
                    <a:pt x="0" y="30"/>
                  </a:cubicBezTo>
                  <a:cubicBezTo>
                    <a:pt x="0" y="35"/>
                    <a:pt x="4" y="39"/>
                    <a:pt x="9" y="39"/>
                  </a:cubicBezTo>
                  <a:cubicBezTo>
                    <a:pt x="15" y="39"/>
                    <a:pt x="19" y="35"/>
                    <a:pt x="19" y="30"/>
                  </a:cubicBezTo>
                  <a:lnTo>
                    <a:pt x="19" y="10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50520" y="2557440"/>
            <a:ext cx="3768840" cy="8301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4338720" y="425520"/>
            <a:ext cx="4332240" cy="9223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5030640" y="1600200"/>
            <a:ext cx="4113360" cy="2741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image" Target="../media/image5.png"/><Relationship Id="rId4" Type="http://schemas.openxmlformats.org/officeDocument/2006/relationships/image" Target="../media/image6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4.wmf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144000" cy="160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1595520"/>
            <a:ext cx="9144000" cy="3144600"/>
          </a:xfrm>
          <a:prstGeom prst="rect">
            <a:avLst/>
          </a:prstGeom>
          <a:solidFill>
            <a:srgbClr val="015f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39360" y="2765520"/>
            <a:ext cx="355140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DR -&gt; TCD’s</a:t>
            </a:r>
            <a:endParaRPr b="1" lang="en-US" sz="3000" spc="-1" strike="noStrike">
              <a:solidFill>
                <a:srgbClr val="0183b7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4457880" y="1606680"/>
            <a:ext cx="4686120" cy="312264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531720" y="2536920"/>
            <a:ext cx="8309160" cy="317952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 anchorCtr="1">
            <a:normAutofit/>
          </a:bodyPr>
          <a:p>
            <a:pPr lvl="1" marL="231840" indent="-117360">
              <a:lnSpc>
                <a:spcPct val="95000"/>
              </a:lnSpc>
              <a:spcBef>
                <a:spcPts val="1125"/>
              </a:spcBef>
              <a:tabLst>
                <a:tab algn="l" pos="0"/>
                <a:tab algn="l" pos="347760"/>
                <a:tab algn="l" pos="463680"/>
                <a:tab algn="l" pos="579600"/>
                <a:tab algn="l" pos="695160"/>
                <a:tab algn="l" pos="811080"/>
                <a:tab algn="l" pos="927000"/>
                <a:tab algn="l" pos="1042920"/>
                <a:tab algn="l" pos="1158840"/>
                <a:tab algn="l" pos="1274760"/>
                <a:tab algn="l" pos="1390680"/>
                <a:tab algn="l" pos="1506600"/>
                <a:tab algn="l" pos="1622520"/>
                <a:tab algn="l" pos="1738440"/>
                <a:tab algn="l" pos="1854360"/>
                <a:tab algn="l" pos="1969920"/>
                <a:tab algn="l" pos="2085840"/>
                <a:tab algn="l" pos="2201760"/>
                <a:tab algn="l" pos="2317680"/>
                <a:tab algn="l" pos="2433600"/>
                <a:tab algn="l" pos="2549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globalCallID_callManagerId * (2 to the 24th)) +  globalCallID_call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31840" indent="-117360">
              <a:lnSpc>
                <a:spcPct val="95000"/>
              </a:lnSpc>
              <a:spcBef>
                <a:spcPts val="1125"/>
              </a:spcBef>
              <a:tabLst>
                <a:tab algn="l" pos="0"/>
                <a:tab algn="l" pos="347760"/>
                <a:tab algn="l" pos="463680"/>
                <a:tab algn="l" pos="579600"/>
                <a:tab algn="l" pos="695160"/>
                <a:tab algn="l" pos="811080"/>
                <a:tab algn="l" pos="927000"/>
                <a:tab algn="l" pos="1042920"/>
                <a:tab algn="l" pos="1158840"/>
                <a:tab algn="l" pos="1274760"/>
                <a:tab algn="l" pos="1390680"/>
                <a:tab algn="l" pos="1506600"/>
                <a:tab algn="l" pos="1622520"/>
                <a:tab algn="l" pos="1738440"/>
                <a:tab algn="l" pos="1854360"/>
                <a:tab algn="l" pos="1969920"/>
                <a:tab algn="l" pos="2085840"/>
                <a:tab algn="l" pos="2201760"/>
                <a:tab algn="l" pos="2317680"/>
                <a:tab algn="l" pos="2433600"/>
                <a:tab algn="l" pos="25495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31840" indent="-117360">
              <a:lnSpc>
                <a:spcPct val="95000"/>
              </a:lnSpc>
              <a:spcBef>
                <a:spcPts val="1125"/>
              </a:spcBef>
              <a:tabLst>
                <a:tab algn="l" pos="0"/>
                <a:tab algn="l" pos="347760"/>
                <a:tab algn="l" pos="463680"/>
                <a:tab algn="l" pos="579600"/>
                <a:tab algn="l" pos="695160"/>
                <a:tab algn="l" pos="811080"/>
                <a:tab algn="l" pos="927000"/>
                <a:tab algn="l" pos="1042920"/>
                <a:tab algn="l" pos="1158840"/>
                <a:tab algn="l" pos="1274760"/>
                <a:tab algn="l" pos="1390680"/>
                <a:tab algn="l" pos="1506600"/>
                <a:tab algn="l" pos="1622520"/>
                <a:tab algn="l" pos="1738440"/>
                <a:tab algn="l" pos="1854360"/>
                <a:tab algn="l" pos="1969920"/>
                <a:tab algn="l" pos="2085840"/>
                <a:tab algn="l" pos="2201760"/>
                <a:tab algn="l" pos="2317680"/>
                <a:tab algn="l" pos="2433600"/>
                <a:tab algn="l" pos="2549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xample: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lobalCallID_callManagerId = 4,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lobalCallID_callId = 82280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31840" indent="-117360">
              <a:lnSpc>
                <a:spcPct val="95000"/>
              </a:lnSpc>
              <a:spcBef>
                <a:spcPts val="1125"/>
              </a:spcBef>
              <a:tabLst>
                <a:tab algn="l" pos="0"/>
                <a:tab algn="l" pos="347760"/>
                <a:tab algn="l" pos="463680"/>
                <a:tab algn="l" pos="579600"/>
                <a:tab algn="l" pos="695160"/>
                <a:tab algn="l" pos="811080"/>
                <a:tab algn="l" pos="927000"/>
                <a:tab algn="l" pos="1042920"/>
                <a:tab algn="l" pos="1158840"/>
                <a:tab algn="l" pos="1274760"/>
                <a:tab algn="l" pos="1390680"/>
                <a:tab algn="l" pos="1506600"/>
                <a:tab algn="l" pos="1622520"/>
                <a:tab algn="l" pos="1738440"/>
                <a:tab algn="l" pos="1854360"/>
                <a:tab algn="l" pos="1969920"/>
                <a:tab algn="l" pos="2085840"/>
                <a:tab algn="l" pos="2201760"/>
                <a:tab algn="l" pos="2317680"/>
                <a:tab algn="l" pos="2433600"/>
                <a:tab algn="l" pos="25495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31840" indent="-117360">
              <a:lnSpc>
                <a:spcPct val="95000"/>
              </a:lnSpc>
              <a:spcBef>
                <a:spcPts val="1125"/>
              </a:spcBef>
              <a:tabLst>
                <a:tab algn="l" pos="0"/>
                <a:tab algn="l" pos="347760"/>
                <a:tab algn="l" pos="463680"/>
                <a:tab algn="l" pos="579600"/>
                <a:tab algn="l" pos="695160"/>
                <a:tab algn="l" pos="811080"/>
                <a:tab algn="l" pos="927000"/>
                <a:tab algn="l" pos="1042920"/>
                <a:tab algn="l" pos="1158840"/>
                <a:tab algn="l" pos="1274760"/>
                <a:tab algn="l" pos="1390680"/>
                <a:tab algn="l" pos="1506600"/>
                <a:tab algn="l" pos="1622520"/>
                <a:tab algn="l" pos="1738440"/>
                <a:tab algn="l" pos="1854360"/>
                <a:tab algn="l" pos="1969920"/>
                <a:tab algn="l" pos="2085840"/>
                <a:tab algn="l" pos="2201760"/>
                <a:tab algn="l" pos="2317680"/>
                <a:tab algn="l" pos="2433600"/>
                <a:tab algn="l" pos="2549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eripheralCallKey = (4 * (16777216)) + 82280 = 671911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55200" y="3049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Find Out Who Hung Up First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016600" y="5999040"/>
            <a:ext cx="3394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600" spc="-1" strike="noStrike">
                <a:solidFill>
                  <a:srgbClr val="b21a1a"/>
                </a:solidFill>
                <a:latin typeface="Arial"/>
              </a:rPr>
              <a:t>tcd.PeripheralCallKey = 6719114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26880" y="5979960"/>
            <a:ext cx="3200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600" spc="-1" strike="noStrike">
                <a:solidFill>
                  <a:srgbClr val="b21a1a"/>
                </a:solidFill>
                <a:latin typeface="Arial"/>
              </a:rPr>
              <a:t>globalCallID_CallManagerID = 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600" spc="-1" strike="noStrike">
                <a:solidFill>
                  <a:srgbClr val="b21a1a"/>
                </a:solidFill>
                <a:latin typeface="Arial"/>
              </a:rPr>
              <a:t>globalCallID_CallId = 8228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6760" y="1346040"/>
            <a:ext cx="8748720" cy="39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CD.PeripheralCallKey is created out of the CDR.globalCallID_callManagerId + CallDetailRecord. globalCallID_call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 flipH="1">
            <a:off x="3482640" y="5308560"/>
            <a:ext cx="376200" cy="736560"/>
          </a:xfrm>
          <a:prstGeom prst="line">
            <a:avLst/>
          </a:prstGeom>
          <a:ln w="19080">
            <a:solidFill>
              <a:srgbClr val="b21a1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 flipH="1">
            <a:off x="3135240" y="5319720"/>
            <a:ext cx="3208320" cy="1073160"/>
          </a:xfrm>
          <a:prstGeom prst="line">
            <a:avLst/>
          </a:prstGeom>
          <a:ln w="19080">
            <a:solidFill>
              <a:srgbClr val="b21a1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7678440" y="5278320"/>
            <a:ext cx="260280" cy="738360"/>
          </a:xfrm>
          <a:prstGeom prst="line">
            <a:avLst/>
          </a:prstGeom>
          <a:ln w="19080">
            <a:solidFill>
              <a:srgbClr val="b21a1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55200" y="3049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Find Personal Line Activity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50720" y="1521000"/>
            <a:ext cx="8001000" cy="508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lnSpc>
                <a:spcPct val="95000"/>
              </a:lnSpc>
              <a:spcBef>
                <a:spcPts val="1874"/>
              </a:spcBef>
              <a:buClr>
                <a:srgbClr val="0183b7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Link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lling Party Number -&gt; Instrument Port 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P Address of instrument -&gt; all other acti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 Instrument Port Number = Non-ICM Ag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 the CM table is “master” for Non-Ag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5000"/>
              </a:lnSpc>
              <a:spcBef>
                <a:spcPts val="1874"/>
              </a:spcBef>
              <a:buClr>
                <a:srgbClr val="0183b7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1874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55200" y="3049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Get a list of all Monitored Extensions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50720" y="1378080"/>
            <a:ext cx="8464680" cy="74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lvl="1" marL="914400" indent="-457200">
              <a:lnSpc>
                <a:spcPct val="90000"/>
              </a:lnSpc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CD.InstrumentPortNumber = CDR.CalledParty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85760" y="2143080"/>
            <a:ext cx="8686800" cy="420228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 anchorCtr="1">
            <a:normAutofit fontScale="99000"/>
          </a:bodyPr>
          <a:p>
            <a:pPr lvl="1" marL="114480" indent="-1080">
              <a:lnSpc>
                <a:spcPct val="95000"/>
              </a:lnSpc>
              <a:spcBef>
                <a:spcPts val="1063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SELECT  DISTINCT OriginalCalledPartyNumber, DestIpAddr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-1080">
              <a:lnSpc>
                <a:spcPct val="95000"/>
              </a:lnSpc>
              <a:spcBef>
                <a:spcPts val="1063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FROM  CallDetailRecord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-1080">
              <a:lnSpc>
                <a:spcPct val="95000"/>
              </a:lnSpc>
              <a:spcBef>
                <a:spcPts val="1063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WHERE  Convert(Float,OriginalCalledPartyNumber) I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-1080">
              <a:lnSpc>
                <a:spcPct val="95000"/>
              </a:lnSpc>
              <a:spcBef>
                <a:spcPts val="1063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( SELECT InstrumentPortNumber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-1080">
              <a:lnSpc>
                <a:spcPct val="95000"/>
              </a:lnSpc>
              <a:spcBef>
                <a:spcPts val="1063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INTO  #ICMExtensio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-1080">
              <a:lnSpc>
                <a:spcPct val="95000"/>
              </a:lnSpc>
              <a:spcBef>
                <a:spcPts val="1063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FROM  t_Termination_Call_Detail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-1080">
              <a:lnSpc>
                <a:spcPct val="95000"/>
              </a:lnSpc>
              <a:spcBef>
                <a:spcPts val="1063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WHERE  InstrumentPortNumber in (82490, 82492)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-1080">
              <a:lnSpc>
                <a:spcPct val="95000"/>
              </a:lnSpc>
              <a:spcBef>
                <a:spcPts val="1063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AND  DateTime &gt;= @Begi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-1080">
              <a:lnSpc>
                <a:spcPct val="95000"/>
              </a:lnSpc>
              <a:spcBef>
                <a:spcPts val="1063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AND  DateTime &lt;  @En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-1080">
              <a:lnSpc>
                <a:spcPct val="95000"/>
              </a:lnSpc>
              <a:spcBef>
                <a:spcPts val="1063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AND  DATEADD(ss,dateTimeOrigination,'1/1/1970'))&gt;=@Begi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-1080">
              <a:lnSpc>
                <a:spcPct val="95000"/>
              </a:lnSpc>
              <a:spcBef>
                <a:spcPts val="1063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AND  DATEADD(ss,dateTimeOrigination, '1/1/1970')) &gt; @En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5000"/>
              </a:lnSpc>
              <a:spcBef>
                <a:spcPts val="1063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037200" y="1947960"/>
            <a:ext cx="1552680" cy="784080"/>
          </a:xfrm>
          <a:prstGeom prst="ellipse">
            <a:avLst/>
          </a:prstGeom>
          <a:noFill/>
          <a:ln w="38160">
            <a:solidFill>
              <a:srgbClr val="b21a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H="1" flipV="1">
            <a:off x="7475040" y="2669760"/>
            <a:ext cx="304920" cy="274680"/>
          </a:xfrm>
          <a:prstGeom prst="line">
            <a:avLst/>
          </a:prstGeom>
          <a:ln w="38160">
            <a:solidFill>
              <a:srgbClr val="b21a1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362360" y="2965320"/>
            <a:ext cx="1359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800" spc="-1" strike="noStrike">
                <a:solidFill>
                  <a:srgbClr val="b21a1a"/>
                </a:solidFill>
                <a:latin typeface="Arial"/>
              </a:rPr>
              <a:t>IP Add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800" spc="-1" strike="noStrike">
                <a:solidFill>
                  <a:srgbClr val="b21a1a"/>
                </a:solidFill>
                <a:latin typeface="Arial"/>
              </a:rPr>
              <a:t>links al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800" spc="-1" strike="noStrike">
                <a:solidFill>
                  <a:srgbClr val="b21a1a"/>
                </a:solidFill>
                <a:latin typeface="Arial"/>
              </a:rPr>
              <a:t>activity 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800" spc="-1" strike="noStrike">
                <a:solidFill>
                  <a:srgbClr val="b21a1a"/>
                </a:solidFill>
                <a:latin typeface="Arial"/>
              </a:rPr>
              <a:t>the ph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55200" y="3049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Find Inbound Personal Line Activity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0720" y="1378080"/>
            <a:ext cx="8464680" cy="13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lvl="1" marL="914400" indent="-457200">
              <a:lnSpc>
                <a:spcPct val="90000"/>
              </a:lnSpc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th temp table from previous step, find all activity where the destination IP = the ICM monitored IP and the number called is NOT equal to our ext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85760" y="2874960"/>
            <a:ext cx="8773920" cy="310032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 anchorCtr="1">
            <a:normAutofit/>
          </a:bodyPr>
          <a:p>
            <a:pPr>
              <a:lnSpc>
                <a:spcPct val="95000"/>
              </a:lnSpc>
              <a:spcBef>
                <a:spcPts val="1063"/>
              </a:spcBef>
              <a:tabLst>
                <a:tab algn="l" pos="0"/>
                <a:tab algn="l" pos="115920"/>
                <a:tab algn="l" pos="231840"/>
                <a:tab algn="l" pos="347760"/>
                <a:tab algn="l" pos="463680"/>
                <a:tab algn="l" pos="579600"/>
                <a:tab algn="l" pos="695160"/>
                <a:tab algn="l" pos="811080"/>
                <a:tab algn="l" pos="927000"/>
                <a:tab algn="l" pos="1042920"/>
                <a:tab algn="l" pos="1158840"/>
                <a:tab algn="l" pos="1274760"/>
                <a:tab algn="l" pos="1390680"/>
                <a:tab algn="l" pos="1506600"/>
                <a:tab algn="l" pos="1622520"/>
                <a:tab algn="l" pos="1738440"/>
                <a:tab algn="l" pos="1854360"/>
                <a:tab algn="l" pos="1969920"/>
                <a:tab algn="l" pos="2085840"/>
                <a:tab algn="l" pos="2201760"/>
                <a:tab algn="l" pos="23176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SELECT InboundCalls = Count(*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14480">
              <a:lnSpc>
                <a:spcPct val="95000"/>
              </a:lnSpc>
              <a:spcBef>
                <a:spcPts val="1063"/>
              </a:spcBef>
              <a:tabLst>
                <a:tab algn="l" pos="0"/>
                <a:tab algn="l" pos="115920"/>
                <a:tab algn="l" pos="231840"/>
                <a:tab algn="l" pos="347760"/>
                <a:tab algn="l" pos="463680"/>
                <a:tab algn="l" pos="579600"/>
                <a:tab algn="l" pos="695160"/>
                <a:tab algn="l" pos="811080"/>
                <a:tab algn="l" pos="927000"/>
                <a:tab algn="l" pos="1042920"/>
                <a:tab algn="l" pos="1158840"/>
                <a:tab algn="l" pos="1274760"/>
                <a:tab algn="l" pos="1390680"/>
                <a:tab algn="l" pos="1506600"/>
                <a:tab algn="l" pos="1622520"/>
                <a:tab algn="l" pos="1738440"/>
                <a:tab algn="l" pos="1854360"/>
                <a:tab algn="l" pos="1969920"/>
                <a:tab algn="l" pos="2085840"/>
                <a:tab algn="l" pos="2201760"/>
                <a:tab algn="l" pos="23176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FROM CallDetailRecord CDR,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14480">
              <a:lnSpc>
                <a:spcPct val="95000"/>
              </a:lnSpc>
              <a:spcBef>
                <a:spcPts val="1063"/>
              </a:spcBef>
              <a:tabLst>
                <a:tab algn="l" pos="0"/>
                <a:tab algn="l" pos="115920"/>
                <a:tab algn="l" pos="231840"/>
                <a:tab algn="l" pos="347760"/>
                <a:tab algn="l" pos="463680"/>
                <a:tab algn="l" pos="579600"/>
                <a:tab algn="l" pos="695160"/>
                <a:tab algn="l" pos="811080"/>
                <a:tab algn="l" pos="927000"/>
                <a:tab algn="l" pos="1042920"/>
                <a:tab algn="l" pos="1158840"/>
                <a:tab algn="l" pos="1274760"/>
                <a:tab algn="l" pos="1390680"/>
                <a:tab algn="l" pos="1506600"/>
                <a:tab algn="l" pos="1622520"/>
                <a:tab algn="l" pos="1738440"/>
                <a:tab algn="l" pos="1854360"/>
                <a:tab algn="l" pos="1969920"/>
                <a:tab algn="l" pos="2085840"/>
                <a:tab algn="l" pos="2201760"/>
                <a:tab algn="l" pos="23176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#ICMExtension ICM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14480">
              <a:lnSpc>
                <a:spcPct val="95000"/>
              </a:lnSpc>
              <a:spcBef>
                <a:spcPts val="1063"/>
              </a:spcBef>
              <a:tabLst>
                <a:tab algn="l" pos="0"/>
                <a:tab algn="l" pos="115920"/>
                <a:tab algn="l" pos="231840"/>
                <a:tab algn="l" pos="347760"/>
                <a:tab algn="l" pos="463680"/>
                <a:tab algn="l" pos="579600"/>
                <a:tab algn="l" pos="695160"/>
                <a:tab algn="l" pos="811080"/>
                <a:tab algn="l" pos="927000"/>
                <a:tab algn="l" pos="1042920"/>
                <a:tab algn="l" pos="1158840"/>
                <a:tab algn="l" pos="1274760"/>
                <a:tab algn="l" pos="1390680"/>
                <a:tab algn="l" pos="1506600"/>
                <a:tab algn="l" pos="1622520"/>
                <a:tab algn="l" pos="1738440"/>
                <a:tab algn="l" pos="1854360"/>
                <a:tab algn="l" pos="1969920"/>
                <a:tab algn="l" pos="2085840"/>
                <a:tab algn="l" pos="2201760"/>
                <a:tab algn="l" pos="23176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WHERE CDR.DestIpAddr = ICM.ipAddres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14480">
              <a:lnSpc>
                <a:spcPct val="95000"/>
              </a:lnSpc>
              <a:spcBef>
                <a:spcPts val="1063"/>
              </a:spcBef>
              <a:tabLst>
                <a:tab algn="l" pos="0"/>
                <a:tab algn="l" pos="115920"/>
                <a:tab algn="l" pos="231840"/>
                <a:tab algn="l" pos="347760"/>
                <a:tab algn="l" pos="463680"/>
                <a:tab algn="l" pos="579600"/>
                <a:tab algn="l" pos="695160"/>
                <a:tab algn="l" pos="811080"/>
                <a:tab algn="l" pos="927000"/>
                <a:tab algn="l" pos="1042920"/>
                <a:tab algn="l" pos="1158840"/>
                <a:tab algn="l" pos="1274760"/>
                <a:tab algn="l" pos="1390680"/>
                <a:tab algn="l" pos="1506600"/>
                <a:tab algn="l" pos="1622520"/>
                <a:tab algn="l" pos="1738440"/>
                <a:tab algn="l" pos="1854360"/>
                <a:tab algn="l" pos="1969920"/>
                <a:tab algn="l" pos="2085840"/>
                <a:tab algn="l" pos="2201760"/>
                <a:tab algn="l" pos="23176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AND CDR.OriginalCalledPartyNumber &lt;&gt; ICM.ICMExtensio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14480">
              <a:lnSpc>
                <a:spcPct val="95000"/>
              </a:lnSpc>
              <a:spcBef>
                <a:spcPts val="1063"/>
              </a:spcBef>
              <a:tabLst>
                <a:tab algn="l" pos="0"/>
                <a:tab algn="l" pos="115920"/>
                <a:tab algn="l" pos="231840"/>
                <a:tab algn="l" pos="347760"/>
                <a:tab algn="l" pos="463680"/>
                <a:tab algn="l" pos="579600"/>
                <a:tab algn="l" pos="695160"/>
                <a:tab algn="l" pos="811080"/>
                <a:tab algn="l" pos="927000"/>
                <a:tab algn="l" pos="1042920"/>
                <a:tab algn="l" pos="1158840"/>
                <a:tab algn="l" pos="1274760"/>
                <a:tab algn="l" pos="1390680"/>
                <a:tab algn="l" pos="1506600"/>
                <a:tab algn="l" pos="1622520"/>
                <a:tab algn="l" pos="1738440"/>
                <a:tab algn="l" pos="1854360"/>
                <a:tab algn="l" pos="1969920"/>
                <a:tab algn="l" pos="2085840"/>
                <a:tab algn="l" pos="2201760"/>
                <a:tab algn="l" pos="23176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AND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DATEADD(ss,CDR.dateTimeOrigination,'1/1/1970')&gt;=@Begi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14480">
              <a:lnSpc>
                <a:spcPct val="95000"/>
              </a:lnSpc>
              <a:spcBef>
                <a:spcPts val="1063"/>
              </a:spcBef>
              <a:tabLst>
                <a:tab algn="l" pos="0"/>
                <a:tab algn="l" pos="115920"/>
                <a:tab algn="l" pos="231840"/>
                <a:tab algn="l" pos="347760"/>
                <a:tab algn="l" pos="463680"/>
                <a:tab algn="l" pos="579600"/>
                <a:tab algn="l" pos="695160"/>
                <a:tab algn="l" pos="811080"/>
                <a:tab algn="l" pos="927000"/>
                <a:tab algn="l" pos="1042920"/>
                <a:tab algn="l" pos="1158840"/>
                <a:tab algn="l" pos="1274760"/>
                <a:tab algn="l" pos="1390680"/>
                <a:tab algn="l" pos="1506600"/>
                <a:tab algn="l" pos="1622520"/>
                <a:tab algn="l" pos="1738440"/>
                <a:tab algn="l" pos="1854360"/>
                <a:tab algn="l" pos="1969920"/>
                <a:tab algn="l" pos="2085840"/>
                <a:tab algn="l" pos="2201760"/>
                <a:tab algn="l" pos="23176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AND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DATEADD(ss,CDR.dateTimeOrigination,'1/1/1970')&lt; @En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030320" y="4695840"/>
            <a:ext cx="7547040" cy="289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871560" y="4317840"/>
            <a:ext cx="5456160" cy="304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570000" y="3895560"/>
            <a:ext cx="2223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600" spc="-1" strike="noStrike">
                <a:solidFill>
                  <a:srgbClr val="b21a1a"/>
                </a:solidFill>
                <a:latin typeface="Arial"/>
              </a:rPr>
              <a:t>Match known IPAdd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600" spc="-1" strike="noStrike">
                <a:solidFill>
                  <a:srgbClr val="b21a1a"/>
                </a:solidFill>
                <a:latin typeface="Arial"/>
              </a:rPr>
              <a:t>&lt;&gt; monitored lin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351040" y="3276720"/>
            <a:ext cx="2810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600" spc="-1" strike="noStrike">
                <a:solidFill>
                  <a:srgbClr val="b21a1a"/>
                </a:solidFill>
                <a:latin typeface="Arial"/>
              </a:rPr>
              <a:t>Use DestIpAddr &amp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600" spc="-1" strike="noStrike">
                <a:solidFill>
                  <a:srgbClr val="b21a1a"/>
                </a:solidFill>
                <a:latin typeface="Arial"/>
              </a:rPr>
              <a:t>OriginalCalledPartyNumb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3512880" y="3649680"/>
            <a:ext cx="1857240" cy="668160"/>
          </a:xfrm>
          <a:prstGeom prst="line">
            <a:avLst/>
          </a:prstGeom>
          <a:ln w="38160">
            <a:solidFill>
              <a:srgbClr val="b21a1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3724200" y="3654360"/>
            <a:ext cx="1627200" cy="1047960"/>
          </a:xfrm>
          <a:prstGeom prst="line">
            <a:avLst/>
          </a:prstGeom>
          <a:ln w="38160">
            <a:solidFill>
              <a:srgbClr val="b21a1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5768640" y="4135320"/>
            <a:ext cx="841320" cy="217440"/>
          </a:xfrm>
          <a:prstGeom prst="line">
            <a:avLst/>
          </a:prstGeom>
          <a:ln w="38160">
            <a:solidFill>
              <a:srgbClr val="b21a1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6095520" y="4133880"/>
            <a:ext cx="482760" cy="546120"/>
          </a:xfrm>
          <a:prstGeom prst="line">
            <a:avLst/>
          </a:prstGeom>
          <a:ln w="38160">
            <a:solidFill>
              <a:srgbClr val="b21a1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55200" y="3049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Find Outbound Personal Line Activity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85760" y="2774880"/>
            <a:ext cx="8773920" cy="310032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 anchorCtr="1">
            <a:normAutofit/>
          </a:bodyPr>
          <a:p>
            <a:pPr>
              <a:lnSpc>
                <a:spcPct val="95000"/>
              </a:lnSpc>
              <a:spcBef>
                <a:spcPts val="1063"/>
              </a:spcBef>
              <a:tabLst>
                <a:tab algn="l" pos="0"/>
                <a:tab algn="l" pos="115920"/>
                <a:tab algn="l" pos="231840"/>
                <a:tab algn="l" pos="347760"/>
                <a:tab algn="l" pos="463680"/>
                <a:tab algn="l" pos="579600"/>
                <a:tab algn="l" pos="695160"/>
                <a:tab algn="l" pos="811080"/>
                <a:tab algn="l" pos="927000"/>
                <a:tab algn="l" pos="1042920"/>
                <a:tab algn="l" pos="1158840"/>
                <a:tab algn="l" pos="1274760"/>
                <a:tab algn="l" pos="1390680"/>
                <a:tab algn="l" pos="1506600"/>
                <a:tab algn="l" pos="1622520"/>
                <a:tab algn="l" pos="1738440"/>
                <a:tab algn="l" pos="1854360"/>
                <a:tab algn="l" pos="1969920"/>
                <a:tab algn="l" pos="2085840"/>
                <a:tab algn="l" pos="2201760"/>
                <a:tab algn="l" pos="23176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SELECT  OutboundCalls = Count(*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14480">
              <a:lnSpc>
                <a:spcPct val="95000"/>
              </a:lnSpc>
              <a:spcBef>
                <a:spcPts val="1063"/>
              </a:spcBef>
              <a:tabLst>
                <a:tab algn="l" pos="0"/>
                <a:tab algn="l" pos="115920"/>
                <a:tab algn="l" pos="231840"/>
                <a:tab algn="l" pos="347760"/>
                <a:tab algn="l" pos="463680"/>
                <a:tab algn="l" pos="579600"/>
                <a:tab algn="l" pos="695160"/>
                <a:tab algn="l" pos="811080"/>
                <a:tab algn="l" pos="927000"/>
                <a:tab algn="l" pos="1042920"/>
                <a:tab algn="l" pos="1158840"/>
                <a:tab algn="l" pos="1274760"/>
                <a:tab algn="l" pos="1390680"/>
                <a:tab algn="l" pos="1506600"/>
                <a:tab algn="l" pos="1622520"/>
                <a:tab algn="l" pos="1738440"/>
                <a:tab algn="l" pos="1854360"/>
                <a:tab algn="l" pos="1969920"/>
                <a:tab algn="l" pos="2085840"/>
                <a:tab algn="l" pos="2201760"/>
                <a:tab algn="l" pos="23176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FROM CallDetailRecord CDR,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14480">
              <a:lnSpc>
                <a:spcPct val="95000"/>
              </a:lnSpc>
              <a:spcBef>
                <a:spcPts val="1063"/>
              </a:spcBef>
              <a:tabLst>
                <a:tab algn="l" pos="0"/>
                <a:tab algn="l" pos="115920"/>
                <a:tab algn="l" pos="231840"/>
                <a:tab algn="l" pos="347760"/>
                <a:tab algn="l" pos="463680"/>
                <a:tab algn="l" pos="579600"/>
                <a:tab algn="l" pos="695160"/>
                <a:tab algn="l" pos="811080"/>
                <a:tab algn="l" pos="927000"/>
                <a:tab algn="l" pos="1042920"/>
                <a:tab algn="l" pos="1158840"/>
                <a:tab algn="l" pos="1274760"/>
                <a:tab algn="l" pos="1390680"/>
                <a:tab algn="l" pos="1506600"/>
                <a:tab algn="l" pos="1622520"/>
                <a:tab algn="l" pos="1738440"/>
                <a:tab algn="l" pos="1854360"/>
                <a:tab algn="l" pos="1969920"/>
                <a:tab algn="l" pos="2085840"/>
                <a:tab algn="l" pos="2201760"/>
                <a:tab algn="l" pos="23176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#ICMExtension ICM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14480">
              <a:lnSpc>
                <a:spcPct val="95000"/>
              </a:lnSpc>
              <a:spcBef>
                <a:spcPts val="1063"/>
              </a:spcBef>
              <a:tabLst>
                <a:tab algn="l" pos="0"/>
                <a:tab algn="l" pos="115920"/>
                <a:tab algn="l" pos="231840"/>
                <a:tab algn="l" pos="347760"/>
                <a:tab algn="l" pos="463680"/>
                <a:tab algn="l" pos="579600"/>
                <a:tab algn="l" pos="695160"/>
                <a:tab algn="l" pos="811080"/>
                <a:tab algn="l" pos="927000"/>
                <a:tab algn="l" pos="1042920"/>
                <a:tab algn="l" pos="1158840"/>
                <a:tab algn="l" pos="1274760"/>
                <a:tab algn="l" pos="1390680"/>
                <a:tab algn="l" pos="1506600"/>
                <a:tab algn="l" pos="1622520"/>
                <a:tab algn="l" pos="1738440"/>
                <a:tab algn="l" pos="1854360"/>
                <a:tab algn="l" pos="1969920"/>
                <a:tab algn="l" pos="2085840"/>
                <a:tab algn="l" pos="2201760"/>
                <a:tab algn="l" pos="23176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WHERE CDR.OrigIpAddr = ICM.ipAddres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14480">
              <a:lnSpc>
                <a:spcPct val="95000"/>
              </a:lnSpc>
              <a:spcBef>
                <a:spcPts val="1063"/>
              </a:spcBef>
              <a:tabLst>
                <a:tab algn="l" pos="0"/>
                <a:tab algn="l" pos="115920"/>
                <a:tab algn="l" pos="231840"/>
                <a:tab algn="l" pos="347760"/>
                <a:tab algn="l" pos="463680"/>
                <a:tab algn="l" pos="579600"/>
                <a:tab algn="l" pos="695160"/>
                <a:tab algn="l" pos="811080"/>
                <a:tab algn="l" pos="927000"/>
                <a:tab algn="l" pos="1042920"/>
                <a:tab algn="l" pos="1158840"/>
                <a:tab algn="l" pos="1274760"/>
                <a:tab algn="l" pos="1390680"/>
                <a:tab algn="l" pos="1506600"/>
                <a:tab algn="l" pos="1622520"/>
                <a:tab algn="l" pos="1738440"/>
                <a:tab algn="l" pos="1854360"/>
                <a:tab algn="l" pos="1969920"/>
                <a:tab algn="l" pos="2085840"/>
                <a:tab algn="l" pos="2201760"/>
                <a:tab algn="l" pos="23176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AND CDR.OriginalCallingPartyNumber &lt;&gt; ICM.ICMExtensio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14480">
              <a:lnSpc>
                <a:spcPct val="95000"/>
              </a:lnSpc>
              <a:spcBef>
                <a:spcPts val="1063"/>
              </a:spcBef>
              <a:tabLst>
                <a:tab algn="l" pos="0"/>
                <a:tab algn="l" pos="115920"/>
                <a:tab algn="l" pos="231840"/>
                <a:tab algn="l" pos="347760"/>
                <a:tab algn="l" pos="463680"/>
                <a:tab algn="l" pos="579600"/>
                <a:tab algn="l" pos="695160"/>
                <a:tab algn="l" pos="811080"/>
                <a:tab algn="l" pos="927000"/>
                <a:tab algn="l" pos="1042920"/>
                <a:tab algn="l" pos="1158840"/>
                <a:tab algn="l" pos="1274760"/>
                <a:tab algn="l" pos="1390680"/>
                <a:tab algn="l" pos="1506600"/>
                <a:tab algn="l" pos="1622520"/>
                <a:tab algn="l" pos="1738440"/>
                <a:tab algn="l" pos="1854360"/>
                <a:tab algn="l" pos="1969920"/>
                <a:tab algn="l" pos="2085840"/>
                <a:tab algn="l" pos="2201760"/>
                <a:tab algn="l" pos="23176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AND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DATEADD(ss,CDR.dateTimeOrigination,'1/1/1970')&gt;=@Begi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14480">
              <a:lnSpc>
                <a:spcPct val="95000"/>
              </a:lnSpc>
              <a:spcBef>
                <a:spcPts val="1063"/>
              </a:spcBef>
              <a:tabLst>
                <a:tab algn="l" pos="0"/>
                <a:tab algn="l" pos="115920"/>
                <a:tab algn="l" pos="231840"/>
                <a:tab algn="l" pos="347760"/>
                <a:tab algn="l" pos="463680"/>
                <a:tab algn="l" pos="579600"/>
                <a:tab algn="l" pos="695160"/>
                <a:tab algn="l" pos="811080"/>
                <a:tab algn="l" pos="927000"/>
                <a:tab algn="l" pos="1042920"/>
                <a:tab algn="l" pos="1158840"/>
                <a:tab algn="l" pos="1274760"/>
                <a:tab algn="l" pos="1390680"/>
                <a:tab algn="l" pos="1506600"/>
                <a:tab algn="l" pos="1622520"/>
                <a:tab algn="l" pos="1738440"/>
                <a:tab algn="l" pos="1854360"/>
                <a:tab algn="l" pos="1969920"/>
                <a:tab algn="l" pos="2085840"/>
                <a:tab algn="l" pos="2201760"/>
                <a:tab algn="l" pos="23176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AND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DATEADD(ss,CDR.dateTimeOrigination,'1/1/1970')&lt; @En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030320" y="4595760"/>
            <a:ext cx="7547040" cy="289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871560" y="4218120"/>
            <a:ext cx="5456160" cy="304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50720" y="1378080"/>
            <a:ext cx="846468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lvl="1" marL="114480"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ing the Originating IP Address = to the ICM Monitored IP where the CallingPartyNumber is NOT equal to our ICM Ext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570000" y="3895560"/>
            <a:ext cx="2223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600" spc="-1" strike="noStrike">
                <a:solidFill>
                  <a:srgbClr val="b21a1a"/>
                </a:solidFill>
                <a:latin typeface="Arial"/>
              </a:rPr>
              <a:t>Match known IPAdd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600" spc="-1" strike="noStrike">
                <a:solidFill>
                  <a:srgbClr val="b21a1a"/>
                </a:solidFill>
                <a:latin typeface="Arial"/>
              </a:rPr>
              <a:t>&lt;&gt; monitored lin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351760" y="3276720"/>
            <a:ext cx="2877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600" spc="-1" strike="noStrike">
                <a:solidFill>
                  <a:srgbClr val="b21a1a"/>
                </a:solidFill>
                <a:latin typeface="Arial"/>
              </a:rPr>
              <a:t>Use OrigIpAddr &amp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600" spc="-1" strike="noStrike">
                <a:solidFill>
                  <a:srgbClr val="b21a1a"/>
                </a:solidFill>
                <a:latin typeface="Arial"/>
              </a:rPr>
              <a:t>OriginalCallingPartyNumb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512880" y="3649680"/>
            <a:ext cx="1857240" cy="668160"/>
          </a:xfrm>
          <a:prstGeom prst="line">
            <a:avLst/>
          </a:prstGeom>
          <a:ln w="38160">
            <a:solidFill>
              <a:srgbClr val="b21a1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3695400" y="3654360"/>
            <a:ext cx="1641240" cy="1005120"/>
          </a:xfrm>
          <a:prstGeom prst="line">
            <a:avLst/>
          </a:prstGeom>
          <a:ln w="38160">
            <a:solidFill>
              <a:srgbClr val="b21a1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H="1">
            <a:off x="5768640" y="4135320"/>
            <a:ext cx="841320" cy="217440"/>
          </a:xfrm>
          <a:prstGeom prst="line">
            <a:avLst/>
          </a:prstGeom>
          <a:ln w="38160">
            <a:solidFill>
              <a:srgbClr val="b21a1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H="1">
            <a:off x="6095520" y="4133880"/>
            <a:ext cx="482760" cy="546120"/>
          </a:xfrm>
          <a:prstGeom prst="line">
            <a:avLst/>
          </a:prstGeom>
          <a:ln w="38160">
            <a:solidFill>
              <a:srgbClr val="b21a1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55200" y="3049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Find Out Who Hung Up First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rot="21286200">
            <a:off x="766800" y="1742760"/>
            <a:ext cx="4916520" cy="1488960"/>
          </a:xfrm>
          <a:prstGeom prst="ellipse">
            <a:avLst/>
          </a:prstGeom>
          <a:noFill/>
          <a:ln w="28440">
            <a:solidFill>
              <a:srgbClr val="b21a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634160" y="2954160"/>
            <a:ext cx="777960" cy="395640"/>
          </a:xfrm>
          <a:prstGeom prst="ellipse">
            <a:avLst/>
          </a:prstGeom>
          <a:solidFill>
            <a:srgbClr val="4798ab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X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1692360" y="2219400"/>
            <a:ext cx="704520" cy="574200"/>
            <a:chOff x="1692360" y="2219400"/>
            <a:chExt cx="704520" cy="574200"/>
          </a:xfrm>
        </p:grpSpPr>
        <p:sp>
          <p:nvSpPr>
            <p:cNvPr id="147" name=""/>
            <p:cNvSpPr/>
            <p:nvPr/>
          </p:nvSpPr>
          <p:spPr>
            <a:xfrm>
              <a:off x="1692360" y="2219400"/>
              <a:ext cx="474120" cy="357120"/>
            </a:xfrm>
            <a:prstGeom prst="can">
              <a:avLst>
                <a:gd name="adj" fmla="val 25000"/>
              </a:avLst>
            </a:prstGeom>
            <a:solidFill>
              <a:srgbClr val="0183b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212920" y="2427120"/>
              <a:ext cx="18396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4408560" y="1938240"/>
            <a:ext cx="689040" cy="400320"/>
            <a:chOff x="4408560" y="1938240"/>
            <a:chExt cx="689040" cy="400320"/>
          </a:xfrm>
        </p:grpSpPr>
        <p:sp>
          <p:nvSpPr>
            <p:cNvPr id="150" name=""/>
            <p:cNvSpPr/>
            <p:nvPr/>
          </p:nvSpPr>
          <p:spPr>
            <a:xfrm>
              <a:off x="4408560" y="1938240"/>
              <a:ext cx="459360" cy="268560"/>
            </a:xfrm>
            <a:prstGeom prst="can">
              <a:avLst>
                <a:gd name="adj" fmla="val 25000"/>
              </a:avLst>
            </a:prstGeom>
            <a:solidFill>
              <a:srgbClr val="83a2c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913640" y="2001600"/>
              <a:ext cx="1839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" name=""/>
          <p:cNvSpPr/>
          <p:nvPr/>
        </p:nvSpPr>
        <p:spPr>
          <a:xfrm>
            <a:off x="2459160" y="2735280"/>
            <a:ext cx="1490400" cy="0"/>
          </a:xfrm>
          <a:prstGeom prst="line">
            <a:avLst/>
          </a:prstGeom>
          <a:ln w="572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720" rIns="72720" tIns="-36360" bIns="-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 flipV="1">
            <a:off x="1918800" y="2746440"/>
            <a:ext cx="196920" cy="9360"/>
          </a:xfrm>
          <a:prstGeom prst="line">
            <a:avLst/>
          </a:prstGeom>
          <a:ln w="5724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67400" y="2751120"/>
            <a:ext cx="1504800" cy="0"/>
          </a:xfrm>
          <a:prstGeom prst="line">
            <a:avLst/>
          </a:prstGeom>
          <a:ln w="572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720" rIns="72720" tIns="-36360" bIns="-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2109960" y="2392200"/>
          <a:ext cx="374400" cy="460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09960" y="2392200"/>
                    <a:ext cx="374400" cy="46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57" name=""/>
          <p:cNvGrpSpPr/>
          <p:nvPr/>
        </p:nvGrpSpPr>
        <p:grpSpPr>
          <a:xfrm>
            <a:off x="4237200" y="2146320"/>
            <a:ext cx="1168200" cy="411120"/>
            <a:chOff x="4237200" y="2146320"/>
            <a:chExt cx="1168200" cy="411120"/>
          </a:xfrm>
        </p:grpSpPr>
        <p:sp>
          <p:nvSpPr>
            <p:cNvPr id="158" name=""/>
            <p:cNvSpPr/>
            <p:nvPr/>
          </p:nvSpPr>
          <p:spPr>
            <a:xfrm>
              <a:off x="4237200" y="2146320"/>
              <a:ext cx="501120" cy="315720"/>
            </a:xfrm>
            <a:prstGeom prst="can">
              <a:avLst>
                <a:gd name="adj" fmla="val 25000"/>
              </a:avLst>
            </a:prstGeom>
            <a:solidFill>
              <a:srgbClr val="83a2c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809960" y="2220840"/>
              <a:ext cx="59544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0" name="" descr=""/>
          <p:cNvPicPr/>
          <p:nvPr/>
        </p:nvPicPr>
        <p:blipFill>
          <a:blip r:embed="rId3"/>
          <a:stretch/>
        </p:blipFill>
        <p:spPr>
          <a:xfrm>
            <a:off x="3819600" y="2314440"/>
            <a:ext cx="839880" cy="64296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4"/>
          <a:stretch/>
        </p:blipFill>
        <p:spPr>
          <a:xfrm>
            <a:off x="1044720" y="2446200"/>
            <a:ext cx="914400" cy="50004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999000" y="218772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6997680" y="2205000"/>
            <a:ext cx="802440" cy="253440"/>
            <a:chOff x="6997680" y="2205000"/>
            <a:chExt cx="802440" cy="253440"/>
          </a:xfrm>
        </p:grpSpPr>
        <p:sp>
          <p:nvSpPr>
            <p:cNvPr id="164" name=""/>
            <p:cNvSpPr/>
            <p:nvPr/>
          </p:nvSpPr>
          <p:spPr>
            <a:xfrm>
              <a:off x="7002000" y="2207160"/>
              <a:ext cx="779760" cy="235080"/>
            </a:xfrm>
            <a:custGeom>
              <a:avLst/>
              <a:gdLst/>
              <a:ahLst/>
              <a:rect l="l" t="t" r="r" b="b"/>
              <a:pathLst>
                <a:path w="631" h="180">
                  <a:moveTo>
                    <a:pt x="630" y="104"/>
                  </a:moveTo>
                  <a:lnTo>
                    <a:pt x="556" y="179"/>
                  </a:lnTo>
                  <a:lnTo>
                    <a:pt x="0" y="179"/>
                  </a:lnTo>
                  <a:lnTo>
                    <a:pt x="0" y="75"/>
                  </a:lnTo>
                  <a:lnTo>
                    <a:pt x="74" y="0"/>
                  </a:lnTo>
                  <a:lnTo>
                    <a:pt x="630" y="0"/>
                  </a:lnTo>
                  <a:lnTo>
                    <a:pt x="630" y="104"/>
                  </a:lnTo>
                </a:path>
              </a:pathLst>
            </a:custGeom>
            <a:solidFill>
              <a:srgbClr val="c1d1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006680" y="2305080"/>
              <a:ext cx="685440" cy="132840"/>
            </a:xfrm>
            <a:custGeom>
              <a:avLst/>
              <a:gdLst/>
              <a:ahLst/>
              <a:rect l="l" t="t" r="r" b="b"/>
              <a:pathLst>
                <a:path w="554" h="102">
                  <a:moveTo>
                    <a:pt x="0" y="0"/>
                  </a:moveTo>
                  <a:lnTo>
                    <a:pt x="553" y="0"/>
                  </a:lnTo>
                  <a:lnTo>
                    <a:pt x="553" y="101"/>
                  </a:lnTo>
                  <a:lnTo>
                    <a:pt x="0" y="101"/>
                  </a:lnTo>
                  <a:lnTo>
                    <a:pt x="0" y="0"/>
                  </a:lnTo>
                </a:path>
              </a:pathLst>
            </a:custGeom>
            <a:solidFill>
              <a:srgbClr val="96aa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006680" y="2300760"/>
              <a:ext cx="690120" cy="20520"/>
            </a:xfrm>
            <a:custGeom>
              <a:avLst/>
              <a:gdLst/>
              <a:ahLst/>
              <a:rect l="l" t="t" r="r" b="b"/>
              <a:pathLst>
                <a:path w="558" h="17">
                  <a:moveTo>
                    <a:pt x="557" y="8"/>
                  </a:moveTo>
                  <a:lnTo>
                    <a:pt x="553" y="0"/>
                  </a:lnTo>
                  <a:lnTo>
                    <a:pt x="0" y="0"/>
                  </a:lnTo>
                  <a:lnTo>
                    <a:pt x="0" y="16"/>
                  </a:lnTo>
                  <a:lnTo>
                    <a:pt x="553" y="16"/>
                  </a:lnTo>
                  <a:lnTo>
                    <a:pt x="549" y="8"/>
                  </a:lnTo>
                  <a:lnTo>
                    <a:pt x="557" y="8"/>
                  </a:lnTo>
                  <a:lnTo>
                    <a:pt x="557" y="0"/>
                  </a:lnTo>
                  <a:lnTo>
                    <a:pt x="553" y="0"/>
                  </a:lnTo>
                  <a:lnTo>
                    <a:pt x="557" y="8"/>
                  </a:lnTo>
                </a:path>
              </a:pathLst>
            </a:custGeom>
            <a:solidFill>
              <a:srgbClr val="96aa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685640" y="2305080"/>
              <a:ext cx="22320" cy="137160"/>
            </a:xfrm>
            <a:custGeom>
              <a:avLst/>
              <a:gdLst/>
              <a:ahLst/>
              <a:rect l="l" t="t" r="r" b="b"/>
              <a:pathLst>
                <a:path w="17" h="106">
                  <a:moveTo>
                    <a:pt x="8" y="105"/>
                  </a:moveTo>
                  <a:lnTo>
                    <a:pt x="16" y="101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101"/>
                  </a:lnTo>
                  <a:lnTo>
                    <a:pt x="8" y="97"/>
                  </a:lnTo>
                  <a:lnTo>
                    <a:pt x="8" y="105"/>
                  </a:lnTo>
                  <a:lnTo>
                    <a:pt x="16" y="105"/>
                  </a:lnTo>
                  <a:lnTo>
                    <a:pt x="16" y="101"/>
                  </a:lnTo>
                  <a:lnTo>
                    <a:pt x="8" y="105"/>
                  </a:lnTo>
                </a:path>
              </a:pathLst>
            </a:custGeom>
            <a:solidFill>
              <a:srgbClr val="96aa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002000" y="2431800"/>
              <a:ext cx="690120" cy="20520"/>
            </a:xfrm>
            <a:custGeom>
              <a:avLst/>
              <a:gdLst/>
              <a:ahLst/>
              <a:rect l="l" t="t" r="r" b="b"/>
              <a:pathLst>
                <a:path w="558" h="17">
                  <a:moveTo>
                    <a:pt x="0" y="8"/>
                  </a:moveTo>
                  <a:lnTo>
                    <a:pt x="4" y="16"/>
                  </a:lnTo>
                  <a:lnTo>
                    <a:pt x="557" y="16"/>
                  </a:lnTo>
                  <a:lnTo>
                    <a:pt x="557" y="0"/>
                  </a:lnTo>
                  <a:lnTo>
                    <a:pt x="4" y="0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4" y="16"/>
                  </a:lnTo>
                  <a:lnTo>
                    <a:pt x="0" y="8"/>
                  </a:lnTo>
                </a:path>
              </a:pathLst>
            </a:custGeom>
            <a:solidFill>
              <a:srgbClr val="96aa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002000" y="2300760"/>
              <a:ext cx="20160" cy="137160"/>
            </a:xfrm>
            <a:custGeom>
              <a:avLst/>
              <a:gdLst/>
              <a:ahLst/>
              <a:rect l="l" t="t" r="r" b="b"/>
              <a:pathLst>
                <a:path w="17" h="106">
                  <a:moveTo>
                    <a:pt x="8" y="0"/>
                  </a:moveTo>
                  <a:lnTo>
                    <a:pt x="0" y="4"/>
                  </a:lnTo>
                  <a:lnTo>
                    <a:pt x="0" y="105"/>
                  </a:lnTo>
                  <a:lnTo>
                    <a:pt x="16" y="105"/>
                  </a:lnTo>
                  <a:lnTo>
                    <a:pt x="16" y="4"/>
                  </a:lnTo>
                  <a:lnTo>
                    <a:pt x="8" y="8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8" y="0"/>
                  </a:lnTo>
                </a:path>
              </a:pathLst>
            </a:custGeom>
            <a:solidFill>
              <a:srgbClr val="96aa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454160" y="2328120"/>
              <a:ext cx="201600" cy="91440"/>
            </a:xfrm>
            <a:custGeom>
              <a:avLst/>
              <a:gdLst/>
              <a:ahLst/>
              <a:rect l="l" t="t" r="r" b="b"/>
              <a:pathLst>
                <a:path w="163" h="70">
                  <a:moveTo>
                    <a:pt x="162" y="0"/>
                  </a:moveTo>
                  <a:lnTo>
                    <a:pt x="0" y="0"/>
                  </a:lnTo>
                  <a:lnTo>
                    <a:pt x="0" y="69"/>
                  </a:lnTo>
                  <a:lnTo>
                    <a:pt x="162" y="69"/>
                  </a:lnTo>
                  <a:lnTo>
                    <a:pt x="162" y="0"/>
                  </a:lnTo>
                </a:path>
              </a:pathLst>
            </a:custGeom>
            <a:solidFill>
              <a:srgbClr val="567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449840" y="2323800"/>
              <a:ext cx="206280" cy="22320"/>
            </a:xfrm>
            <a:custGeom>
              <a:avLst/>
              <a:gdLst/>
              <a:ahLst/>
              <a:rect l="l" t="t" r="r" b="b"/>
              <a:pathLst>
                <a:path w="167" h="17">
                  <a:moveTo>
                    <a:pt x="8" y="8"/>
                  </a:moveTo>
                  <a:lnTo>
                    <a:pt x="4" y="16"/>
                  </a:lnTo>
                  <a:lnTo>
                    <a:pt x="166" y="16"/>
                  </a:lnTo>
                  <a:lnTo>
                    <a:pt x="166" y="0"/>
                  </a:lnTo>
                  <a:lnTo>
                    <a:pt x="4" y="0"/>
                  </a:lnTo>
                  <a:lnTo>
                    <a:pt x="0" y="8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8" y="8"/>
                  </a:lnTo>
                </a:path>
              </a:pathLst>
            </a:custGeom>
            <a:solidFill>
              <a:srgbClr val="567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7449840" y="2328120"/>
              <a:ext cx="19800" cy="97560"/>
            </a:xfrm>
            <a:custGeom>
              <a:avLst/>
              <a:gdLst/>
              <a:ahLst/>
              <a:rect l="l" t="t" r="r" b="b"/>
              <a:pathLst>
                <a:path w="17" h="74">
                  <a:moveTo>
                    <a:pt x="8" y="65"/>
                  </a:moveTo>
                  <a:lnTo>
                    <a:pt x="16" y="69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69"/>
                  </a:lnTo>
                  <a:lnTo>
                    <a:pt x="8" y="73"/>
                  </a:lnTo>
                  <a:lnTo>
                    <a:pt x="0" y="69"/>
                  </a:lnTo>
                  <a:lnTo>
                    <a:pt x="0" y="73"/>
                  </a:lnTo>
                  <a:lnTo>
                    <a:pt x="8" y="73"/>
                  </a:lnTo>
                  <a:lnTo>
                    <a:pt x="8" y="65"/>
                  </a:lnTo>
                </a:path>
              </a:pathLst>
            </a:custGeom>
            <a:solidFill>
              <a:srgbClr val="567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454160" y="2413080"/>
              <a:ext cx="206280" cy="23040"/>
            </a:xfrm>
            <a:custGeom>
              <a:avLst/>
              <a:gdLst/>
              <a:ahLst/>
              <a:rect l="l" t="t" r="r" b="b"/>
              <a:pathLst>
                <a:path w="167" h="17">
                  <a:moveTo>
                    <a:pt x="158" y="8"/>
                  </a:moveTo>
                  <a:lnTo>
                    <a:pt x="162" y="0"/>
                  </a:lnTo>
                  <a:lnTo>
                    <a:pt x="0" y="0"/>
                  </a:lnTo>
                  <a:lnTo>
                    <a:pt x="0" y="16"/>
                  </a:lnTo>
                  <a:lnTo>
                    <a:pt x="162" y="16"/>
                  </a:lnTo>
                  <a:lnTo>
                    <a:pt x="166" y="8"/>
                  </a:lnTo>
                  <a:lnTo>
                    <a:pt x="162" y="16"/>
                  </a:lnTo>
                  <a:lnTo>
                    <a:pt x="166" y="16"/>
                  </a:lnTo>
                  <a:lnTo>
                    <a:pt x="166" y="8"/>
                  </a:lnTo>
                  <a:lnTo>
                    <a:pt x="158" y="8"/>
                  </a:lnTo>
                </a:path>
              </a:pathLst>
            </a:custGeom>
            <a:solidFill>
              <a:srgbClr val="567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649640" y="2323800"/>
              <a:ext cx="22320" cy="95760"/>
            </a:xfrm>
            <a:custGeom>
              <a:avLst/>
              <a:gdLst/>
              <a:ahLst/>
              <a:rect l="l" t="t" r="r" b="b"/>
              <a:pathLst>
                <a:path w="17" h="74">
                  <a:moveTo>
                    <a:pt x="8" y="8"/>
                  </a:moveTo>
                  <a:lnTo>
                    <a:pt x="0" y="4"/>
                  </a:lnTo>
                  <a:lnTo>
                    <a:pt x="0" y="73"/>
                  </a:lnTo>
                  <a:lnTo>
                    <a:pt x="16" y="73"/>
                  </a:lnTo>
                  <a:lnTo>
                    <a:pt x="16" y="4"/>
                  </a:lnTo>
                  <a:lnTo>
                    <a:pt x="8" y="0"/>
                  </a:lnTo>
                  <a:lnTo>
                    <a:pt x="16" y="4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8"/>
                  </a:lnTo>
                </a:path>
              </a:pathLst>
            </a:custGeom>
            <a:solidFill>
              <a:srgbClr val="567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7467480" y="2344680"/>
              <a:ext cx="179640" cy="64440"/>
            </a:xfrm>
            <a:custGeom>
              <a:avLst/>
              <a:gdLst/>
              <a:ahLst/>
              <a:rect l="l" t="t" r="r" b="b"/>
              <a:pathLst>
                <a:path w="144" h="49">
                  <a:moveTo>
                    <a:pt x="0" y="0"/>
                  </a:moveTo>
                  <a:lnTo>
                    <a:pt x="143" y="0"/>
                  </a:lnTo>
                  <a:lnTo>
                    <a:pt x="143" y="48"/>
                  </a:lnTo>
                  <a:lnTo>
                    <a:pt x="0" y="48"/>
                  </a:lnTo>
                  <a:lnTo>
                    <a:pt x="0" y="0"/>
                  </a:lnTo>
                </a:path>
              </a:pathLst>
            </a:custGeom>
            <a:solidFill>
              <a:srgbClr val="567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467480" y="2344680"/>
              <a:ext cx="179640" cy="64440"/>
            </a:xfrm>
            <a:custGeom>
              <a:avLst/>
              <a:gdLst/>
              <a:ahLst/>
              <a:rect l="l" t="t" r="r" b="b"/>
              <a:pathLst>
                <a:path w="144" h="49">
                  <a:moveTo>
                    <a:pt x="0" y="0"/>
                  </a:moveTo>
                  <a:lnTo>
                    <a:pt x="143" y="0"/>
                  </a:lnTo>
                  <a:lnTo>
                    <a:pt x="143" y="48"/>
                  </a:lnTo>
                  <a:lnTo>
                    <a:pt x="0" y="48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96aad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7490160" y="2373840"/>
              <a:ext cx="135000" cy="0"/>
            </a:xfrm>
            <a:prstGeom prst="line">
              <a:avLst/>
            </a:prstGeom>
            <a:ln w="12600">
              <a:solidFill>
                <a:srgbClr val="96aad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7465680" y="2342160"/>
              <a:ext cx="179280" cy="62640"/>
            </a:xfrm>
            <a:custGeom>
              <a:avLst/>
              <a:gdLst/>
              <a:ahLst/>
              <a:rect l="l" t="t" r="r" b="b"/>
              <a:pathLst>
                <a:path w="145" h="48">
                  <a:moveTo>
                    <a:pt x="0" y="0"/>
                  </a:moveTo>
                  <a:lnTo>
                    <a:pt x="144" y="0"/>
                  </a:lnTo>
                  <a:lnTo>
                    <a:pt x="144" y="47"/>
                  </a:lnTo>
                  <a:lnTo>
                    <a:pt x="0" y="47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3854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485480" y="2369520"/>
              <a:ext cx="135000" cy="0"/>
            </a:xfrm>
            <a:prstGeom prst="line">
              <a:avLst/>
            </a:prstGeom>
            <a:ln w="12600">
              <a:solidFill>
                <a:srgbClr val="3854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7044840" y="2338560"/>
              <a:ext cx="382320" cy="0"/>
            </a:xfrm>
            <a:prstGeom prst="line">
              <a:avLst/>
            </a:prstGeom>
            <a:ln w="12600">
              <a:solidFill>
                <a:srgbClr val="c1d1e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7040160" y="2334240"/>
              <a:ext cx="384120" cy="0"/>
            </a:xfrm>
            <a:prstGeom prst="line">
              <a:avLst/>
            </a:prstGeom>
            <a:ln w="12600">
              <a:solidFill>
                <a:srgbClr val="567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7044840" y="2369520"/>
              <a:ext cx="382320" cy="0"/>
            </a:xfrm>
            <a:prstGeom prst="line">
              <a:avLst/>
            </a:prstGeom>
            <a:ln w="12600">
              <a:solidFill>
                <a:srgbClr val="c1d1e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7040160" y="2365200"/>
              <a:ext cx="384120" cy="0"/>
            </a:xfrm>
            <a:prstGeom prst="line">
              <a:avLst/>
            </a:prstGeom>
            <a:ln w="12600">
              <a:solidFill>
                <a:srgbClr val="567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044840" y="2400840"/>
              <a:ext cx="382320" cy="0"/>
            </a:xfrm>
            <a:prstGeom prst="line">
              <a:avLst/>
            </a:prstGeom>
            <a:ln w="12600">
              <a:solidFill>
                <a:srgbClr val="c1d1e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40160" y="2396520"/>
              <a:ext cx="384120" cy="0"/>
            </a:xfrm>
            <a:prstGeom prst="line">
              <a:avLst/>
            </a:prstGeom>
            <a:ln w="12600">
              <a:solidFill>
                <a:srgbClr val="567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39160" y="2215080"/>
              <a:ext cx="631440" cy="66960"/>
            </a:xfrm>
            <a:custGeom>
              <a:avLst/>
              <a:gdLst/>
              <a:ahLst/>
              <a:rect l="l" t="t" r="r" b="b"/>
              <a:pathLst>
                <a:path w="510" h="51">
                  <a:moveTo>
                    <a:pt x="51" y="0"/>
                  </a:moveTo>
                  <a:lnTo>
                    <a:pt x="509" y="0"/>
                  </a:lnTo>
                  <a:lnTo>
                    <a:pt x="458" y="50"/>
                  </a:lnTo>
                  <a:lnTo>
                    <a:pt x="0" y="50"/>
                  </a:lnTo>
                  <a:lnTo>
                    <a:pt x="51" y="0"/>
                  </a:lnTo>
                </a:path>
              </a:pathLst>
            </a:custGeom>
            <a:solidFill>
              <a:srgbClr val="7c9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701480" y="2211480"/>
              <a:ext cx="71640" cy="74520"/>
            </a:xfrm>
            <a:custGeom>
              <a:avLst/>
              <a:gdLst/>
              <a:ahLst/>
              <a:rect l="l" t="t" r="r" b="b"/>
              <a:pathLst>
                <a:path w="57" h="58">
                  <a:moveTo>
                    <a:pt x="3" y="57"/>
                  </a:moveTo>
                  <a:lnTo>
                    <a:pt x="6" y="56"/>
                  </a:lnTo>
                  <a:lnTo>
                    <a:pt x="56" y="7"/>
                  </a:lnTo>
                  <a:lnTo>
                    <a:pt x="51" y="0"/>
                  </a:lnTo>
                  <a:lnTo>
                    <a:pt x="0" y="49"/>
                  </a:lnTo>
                  <a:lnTo>
                    <a:pt x="3" y="48"/>
                  </a:lnTo>
                  <a:lnTo>
                    <a:pt x="3" y="57"/>
                  </a:lnTo>
                  <a:lnTo>
                    <a:pt x="5" y="57"/>
                  </a:lnTo>
                  <a:lnTo>
                    <a:pt x="6" y="56"/>
                  </a:lnTo>
                  <a:lnTo>
                    <a:pt x="3" y="57"/>
                  </a:lnTo>
                </a:path>
              </a:pathLst>
            </a:custGeom>
            <a:solidFill>
              <a:srgbClr val="7c9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25840" y="2273760"/>
              <a:ext cx="582120" cy="22320"/>
            </a:xfrm>
            <a:custGeom>
              <a:avLst/>
              <a:gdLst/>
              <a:ahLst/>
              <a:rect l="l" t="t" r="r" b="b"/>
              <a:pathLst>
                <a:path w="470" h="17">
                  <a:moveTo>
                    <a:pt x="8" y="1"/>
                  </a:moveTo>
                  <a:lnTo>
                    <a:pt x="11" y="16"/>
                  </a:lnTo>
                  <a:lnTo>
                    <a:pt x="469" y="16"/>
                  </a:lnTo>
                  <a:lnTo>
                    <a:pt x="469" y="0"/>
                  </a:lnTo>
                  <a:lnTo>
                    <a:pt x="11" y="0"/>
                  </a:lnTo>
                  <a:lnTo>
                    <a:pt x="14" y="14"/>
                  </a:lnTo>
                  <a:lnTo>
                    <a:pt x="8" y="1"/>
                  </a:lnTo>
                  <a:lnTo>
                    <a:pt x="0" y="16"/>
                  </a:lnTo>
                  <a:lnTo>
                    <a:pt x="11" y="16"/>
                  </a:lnTo>
                  <a:lnTo>
                    <a:pt x="8" y="1"/>
                  </a:lnTo>
                </a:path>
              </a:pathLst>
            </a:custGeom>
            <a:solidFill>
              <a:srgbClr val="7c9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134480" y="2208960"/>
              <a:ext cx="71640" cy="76680"/>
            </a:xfrm>
            <a:custGeom>
              <a:avLst/>
              <a:gdLst/>
              <a:ahLst/>
              <a:rect l="l" t="t" r="r" b="b"/>
              <a:pathLst>
                <a:path w="58" h="58">
                  <a:moveTo>
                    <a:pt x="54" y="0"/>
                  </a:moveTo>
                  <a:lnTo>
                    <a:pt x="51" y="1"/>
                  </a:lnTo>
                  <a:lnTo>
                    <a:pt x="0" y="50"/>
                  </a:lnTo>
                  <a:lnTo>
                    <a:pt x="6" y="57"/>
                  </a:lnTo>
                  <a:lnTo>
                    <a:pt x="57" y="8"/>
                  </a:lnTo>
                  <a:lnTo>
                    <a:pt x="54" y="9"/>
                  </a:lnTo>
                  <a:lnTo>
                    <a:pt x="54" y="0"/>
                  </a:lnTo>
                  <a:lnTo>
                    <a:pt x="52" y="0"/>
                  </a:lnTo>
                  <a:lnTo>
                    <a:pt x="51" y="1"/>
                  </a:lnTo>
                  <a:lnTo>
                    <a:pt x="54" y="0"/>
                  </a:lnTo>
                </a:path>
              </a:pathLst>
            </a:custGeom>
            <a:solidFill>
              <a:srgbClr val="7c9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694640" y="2217600"/>
              <a:ext cx="85320" cy="209880"/>
            </a:xfrm>
            <a:custGeom>
              <a:avLst/>
              <a:gdLst/>
              <a:ahLst/>
              <a:rect l="l" t="t" r="r" b="b"/>
              <a:pathLst>
                <a:path w="68" h="162">
                  <a:moveTo>
                    <a:pt x="0" y="161"/>
                  </a:moveTo>
                  <a:lnTo>
                    <a:pt x="0" y="68"/>
                  </a:lnTo>
                  <a:lnTo>
                    <a:pt x="67" y="0"/>
                  </a:lnTo>
                  <a:lnTo>
                    <a:pt x="67" y="94"/>
                  </a:lnTo>
                  <a:lnTo>
                    <a:pt x="0" y="161"/>
                  </a:lnTo>
                </a:path>
              </a:pathLst>
            </a:custGeom>
            <a:solidFill>
              <a:srgbClr val="567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90320" y="2300760"/>
              <a:ext cx="19800" cy="126720"/>
            </a:xfrm>
            <a:custGeom>
              <a:avLst/>
              <a:gdLst/>
              <a:ahLst/>
              <a:rect l="l" t="t" r="r" b="b"/>
              <a:pathLst>
                <a:path w="17" h="97">
                  <a:moveTo>
                    <a:pt x="2" y="0"/>
                  </a:moveTo>
                  <a:lnTo>
                    <a:pt x="0" y="3"/>
                  </a:lnTo>
                  <a:lnTo>
                    <a:pt x="0" y="96"/>
                  </a:lnTo>
                  <a:lnTo>
                    <a:pt x="16" y="96"/>
                  </a:lnTo>
                  <a:lnTo>
                    <a:pt x="16" y="3"/>
                  </a:lnTo>
                  <a:lnTo>
                    <a:pt x="12" y="5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0"/>
                  </a:lnTo>
                </a:path>
              </a:pathLst>
            </a:custGeom>
            <a:solidFill>
              <a:srgbClr val="567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7692480" y="2205000"/>
              <a:ext cx="92160" cy="104040"/>
            </a:xfrm>
            <a:custGeom>
              <a:avLst/>
              <a:gdLst/>
              <a:ahLst/>
              <a:rect l="l" t="t" r="r" b="b"/>
              <a:pathLst>
                <a:path w="75" h="80">
                  <a:moveTo>
                    <a:pt x="74" y="9"/>
                  </a:moveTo>
                  <a:lnTo>
                    <a:pt x="68" y="6"/>
                  </a:lnTo>
                  <a:lnTo>
                    <a:pt x="0" y="74"/>
                  </a:lnTo>
                  <a:lnTo>
                    <a:pt x="5" y="79"/>
                  </a:lnTo>
                  <a:lnTo>
                    <a:pt x="72" y="11"/>
                  </a:lnTo>
                  <a:lnTo>
                    <a:pt x="66" y="9"/>
                  </a:lnTo>
                  <a:lnTo>
                    <a:pt x="74" y="9"/>
                  </a:lnTo>
                  <a:lnTo>
                    <a:pt x="74" y="0"/>
                  </a:lnTo>
                  <a:lnTo>
                    <a:pt x="68" y="6"/>
                  </a:lnTo>
                  <a:lnTo>
                    <a:pt x="74" y="9"/>
                  </a:lnTo>
                </a:path>
              </a:pathLst>
            </a:custGeom>
            <a:solidFill>
              <a:srgbClr val="567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773480" y="2217600"/>
              <a:ext cx="19800" cy="126720"/>
            </a:xfrm>
            <a:custGeom>
              <a:avLst/>
              <a:gdLst/>
              <a:ahLst/>
              <a:rect l="l" t="t" r="r" b="b"/>
              <a:pathLst>
                <a:path w="17" h="98">
                  <a:moveTo>
                    <a:pt x="12" y="97"/>
                  </a:moveTo>
                  <a:lnTo>
                    <a:pt x="16" y="94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94"/>
                  </a:lnTo>
                  <a:lnTo>
                    <a:pt x="4" y="92"/>
                  </a:lnTo>
                  <a:lnTo>
                    <a:pt x="12" y="97"/>
                  </a:lnTo>
                  <a:lnTo>
                    <a:pt x="16" y="96"/>
                  </a:lnTo>
                  <a:lnTo>
                    <a:pt x="16" y="94"/>
                  </a:lnTo>
                  <a:lnTo>
                    <a:pt x="12" y="97"/>
                  </a:lnTo>
                </a:path>
              </a:pathLst>
            </a:custGeom>
            <a:solidFill>
              <a:srgbClr val="567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690320" y="2336040"/>
              <a:ext cx="91440" cy="104040"/>
            </a:xfrm>
            <a:custGeom>
              <a:avLst/>
              <a:gdLst/>
              <a:ahLst/>
              <a:rect l="l" t="t" r="r" b="b"/>
              <a:pathLst>
                <a:path w="74" h="79">
                  <a:moveTo>
                    <a:pt x="0" y="69"/>
                  </a:moveTo>
                  <a:lnTo>
                    <a:pt x="6" y="71"/>
                  </a:lnTo>
                  <a:lnTo>
                    <a:pt x="73" y="5"/>
                  </a:lnTo>
                  <a:lnTo>
                    <a:pt x="69" y="0"/>
                  </a:lnTo>
                  <a:lnTo>
                    <a:pt x="1" y="67"/>
                  </a:lnTo>
                  <a:lnTo>
                    <a:pt x="8" y="69"/>
                  </a:lnTo>
                  <a:lnTo>
                    <a:pt x="0" y="69"/>
                  </a:lnTo>
                  <a:lnTo>
                    <a:pt x="0" y="78"/>
                  </a:lnTo>
                  <a:lnTo>
                    <a:pt x="6" y="71"/>
                  </a:lnTo>
                  <a:lnTo>
                    <a:pt x="0" y="69"/>
                  </a:lnTo>
                </a:path>
              </a:pathLst>
            </a:custGeom>
            <a:solidFill>
              <a:srgbClr val="567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687800" y="2342160"/>
              <a:ext cx="96840" cy="104040"/>
            </a:xfrm>
            <a:custGeom>
              <a:avLst/>
              <a:gdLst/>
              <a:ahLst/>
              <a:rect l="l" t="t" r="r" b="b"/>
              <a:pathLst>
                <a:path w="78" h="80">
                  <a:moveTo>
                    <a:pt x="1" y="79"/>
                  </a:moveTo>
                  <a:lnTo>
                    <a:pt x="3" y="78"/>
                  </a:lnTo>
                  <a:lnTo>
                    <a:pt x="77" y="3"/>
                  </a:lnTo>
                  <a:lnTo>
                    <a:pt x="74" y="0"/>
                  </a:lnTo>
                  <a:lnTo>
                    <a:pt x="0" y="74"/>
                  </a:lnTo>
                  <a:lnTo>
                    <a:pt x="1" y="73"/>
                  </a:lnTo>
                  <a:lnTo>
                    <a:pt x="1" y="79"/>
                  </a:lnTo>
                  <a:lnTo>
                    <a:pt x="2" y="78"/>
                  </a:lnTo>
                  <a:lnTo>
                    <a:pt x="3" y="78"/>
                  </a:lnTo>
                  <a:lnTo>
                    <a:pt x="1" y="7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997680" y="2436120"/>
              <a:ext cx="694800" cy="22320"/>
            </a:xfrm>
            <a:custGeom>
              <a:avLst/>
              <a:gdLst/>
              <a:ahLst/>
              <a:rect l="l" t="t" r="r" b="b"/>
              <a:pathLst>
                <a:path w="560" h="17">
                  <a:moveTo>
                    <a:pt x="0" y="8"/>
                  </a:moveTo>
                  <a:lnTo>
                    <a:pt x="3" y="16"/>
                  </a:lnTo>
                  <a:lnTo>
                    <a:pt x="559" y="16"/>
                  </a:lnTo>
                  <a:lnTo>
                    <a:pt x="559" y="0"/>
                  </a:lnTo>
                  <a:lnTo>
                    <a:pt x="3" y="0"/>
                  </a:lnTo>
                  <a:lnTo>
                    <a:pt x="6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3" y="16"/>
                  </a:lnTo>
                  <a:lnTo>
                    <a:pt x="0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997680" y="2302920"/>
              <a:ext cx="20160" cy="1389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2" y="0"/>
                  </a:moveTo>
                  <a:lnTo>
                    <a:pt x="0" y="2"/>
                  </a:lnTo>
                  <a:lnTo>
                    <a:pt x="0" y="106"/>
                  </a:lnTo>
                  <a:lnTo>
                    <a:pt x="16" y="106"/>
                  </a:lnTo>
                  <a:lnTo>
                    <a:pt x="16" y="2"/>
                  </a:lnTo>
                  <a:lnTo>
                    <a:pt x="13" y="3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2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000200" y="2205000"/>
              <a:ext cx="96120" cy="102240"/>
            </a:xfrm>
            <a:custGeom>
              <a:avLst/>
              <a:gdLst/>
              <a:ahLst/>
              <a:rect l="l" t="t" r="r" b="b"/>
              <a:pathLst>
                <a:path w="79" h="79">
                  <a:moveTo>
                    <a:pt x="76" y="0"/>
                  </a:moveTo>
                  <a:lnTo>
                    <a:pt x="74" y="1"/>
                  </a:lnTo>
                  <a:lnTo>
                    <a:pt x="0" y="75"/>
                  </a:lnTo>
                  <a:lnTo>
                    <a:pt x="4" y="78"/>
                  </a:lnTo>
                  <a:lnTo>
                    <a:pt x="78" y="4"/>
                  </a:lnTo>
                  <a:lnTo>
                    <a:pt x="76" y="5"/>
                  </a:lnTo>
                  <a:lnTo>
                    <a:pt x="76" y="0"/>
                  </a:lnTo>
                  <a:lnTo>
                    <a:pt x="75" y="0"/>
                  </a:lnTo>
                  <a:lnTo>
                    <a:pt x="74" y="1"/>
                  </a:lnTo>
                  <a:lnTo>
                    <a:pt x="76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779960" y="2207160"/>
              <a:ext cx="20160" cy="1389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12" y="106"/>
                  </a:moveTo>
                  <a:lnTo>
                    <a:pt x="16" y="104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104"/>
                  </a:lnTo>
                  <a:lnTo>
                    <a:pt x="3" y="103"/>
                  </a:lnTo>
                  <a:lnTo>
                    <a:pt x="12" y="106"/>
                  </a:lnTo>
                  <a:lnTo>
                    <a:pt x="16" y="105"/>
                  </a:lnTo>
                  <a:lnTo>
                    <a:pt x="16" y="104"/>
                  </a:lnTo>
                  <a:lnTo>
                    <a:pt x="12" y="10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V="1">
              <a:off x="7002000" y="2212920"/>
              <a:ext cx="87480" cy="93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1" name=""/>
          <p:cNvSpPr/>
          <p:nvPr/>
        </p:nvSpPr>
        <p:spPr>
          <a:xfrm>
            <a:off x="7401600" y="2013120"/>
            <a:ext cx="70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IP-IV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6148440" y="2422440"/>
          <a:ext cx="384120" cy="416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148440" y="2422440"/>
                    <a:ext cx="38412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7"/>
          <a:stretch/>
        </p:blipFill>
        <p:spPr>
          <a:xfrm>
            <a:off x="7051680" y="2784600"/>
            <a:ext cx="725400" cy="5000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6643800" y="2216160"/>
            <a:ext cx="268200" cy="1184400"/>
          </a:xfrm>
          <a:custGeom>
            <a:avLst/>
            <a:gdLst>
              <a:gd name="textAreaLeft" fmla="*/ 171360 w 268200"/>
              <a:gd name="textAreaRight" fmla="*/ 268560 w 268200"/>
              <a:gd name="textAreaTop" fmla="*/ 30600 h 1184400"/>
              <a:gd name="textAreaBottom" fmla="*/ 1153800 h 118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7846920" y="2305080"/>
            <a:ext cx="493920" cy="30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t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421400" y="3251160"/>
            <a:ext cx="495360" cy="30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t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825800" y="1916280"/>
            <a:ext cx="9878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W/H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707720" y="2168640"/>
            <a:ext cx="8506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gg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343240" y="2793960"/>
            <a:ext cx="422280" cy="2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857920" y="2855880"/>
            <a:ext cx="422280" cy="2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82680" y="3772080"/>
            <a:ext cx="8364600" cy="22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CM is not aware of who ended the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is in the CDR of the CC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k based on key value assigned by C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t useful when looked at by Ag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55200" y="3049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Find Out Who Hung Up First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50720" y="1521000"/>
            <a:ext cx="8001000" cy="559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lnSpc>
                <a:spcPct val="95000"/>
              </a:lnSpc>
              <a:spcBef>
                <a:spcPts val="1874"/>
              </a:spcBef>
              <a:buClr>
                <a:srgbClr val="0183b7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Link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82560" indent="-22536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stCause_Value OR OrigCause_Value = 16 (Normal Clearning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2560" indent="-22536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CD.PeripheralCallKey and  CDR.globalCallID_callManagerId + CDR.globalCallID_call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2560" indent="-22536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CD.DateTime and CDR.dateTimeOrig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2560" indent="-22536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2560" indent="-22536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2560" indent="-225360">
              <a:lnSpc>
                <a:spcPct val="95000"/>
              </a:lnSpc>
              <a:spcBef>
                <a:spcPts val="1874"/>
              </a:spcBef>
              <a:buClr>
                <a:srgbClr val="0183b7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1874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2271600" y="1257480"/>
            <a:ext cx="6648480" cy="3217680"/>
          </a:xfrm>
          <a:prstGeom prst="rect">
            <a:avLst/>
          </a:prstGeom>
          <a:ln w="0">
            <a:noFill/>
          </a:ln>
        </p:spPr>
      </p:pic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55200" y="3049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Find Out Who Hung Up First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7402680" y="1278000"/>
            <a:ext cx="1698480" cy="884160"/>
          </a:xfrm>
          <a:prstGeom prst="ellipse">
            <a:avLst/>
          </a:prstGeom>
          <a:noFill/>
          <a:ln w="38160">
            <a:solidFill>
              <a:srgbClr val="b21a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2"/>
          <a:stretch/>
        </p:blipFill>
        <p:spPr>
          <a:xfrm>
            <a:off x="334800" y="4143240"/>
            <a:ext cx="7394760" cy="214632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1627200" y="4199040"/>
            <a:ext cx="1946160" cy="579240"/>
          </a:xfrm>
          <a:prstGeom prst="ellipse">
            <a:avLst/>
          </a:prstGeom>
          <a:noFill/>
          <a:ln w="38160">
            <a:solidFill>
              <a:srgbClr val="b21a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346120" y="2581200"/>
            <a:ext cx="3394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600" spc="-1" strike="noStrike">
                <a:solidFill>
                  <a:srgbClr val="b21a1a"/>
                </a:solidFill>
                <a:latin typeface="Arial"/>
              </a:rPr>
              <a:t>tcd.PeripheralCallKey = 6719114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5791320" y="2074680"/>
            <a:ext cx="1698480" cy="609480"/>
          </a:xfrm>
          <a:prstGeom prst="line">
            <a:avLst/>
          </a:prstGeom>
          <a:ln w="28440">
            <a:solidFill>
              <a:srgbClr val="b21a1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95120" y="3429000"/>
            <a:ext cx="3200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600" spc="-1" strike="noStrike">
                <a:solidFill>
                  <a:srgbClr val="b21a1a"/>
                </a:solidFill>
                <a:latin typeface="Arial"/>
              </a:rPr>
              <a:t>globalCallID_CallManagerID = 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600" spc="-1" strike="noStrike">
                <a:solidFill>
                  <a:srgbClr val="b21a1a"/>
                </a:solidFill>
                <a:latin typeface="Arial"/>
              </a:rPr>
              <a:t>globalCallID_CallId = 8228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147760" y="3959280"/>
            <a:ext cx="784440" cy="452520"/>
          </a:xfrm>
          <a:prstGeom prst="line">
            <a:avLst/>
          </a:prstGeom>
          <a:ln w="38160">
            <a:solidFill>
              <a:srgbClr val="b21a1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2084400" y="3951360"/>
            <a:ext cx="69840" cy="447480"/>
          </a:xfrm>
          <a:prstGeom prst="line">
            <a:avLst/>
          </a:prstGeom>
          <a:ln w="38160">
            <a:solidFill>
              <a:srgbClr val="b21a1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55200" y="3049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Find Out Who Hung Up First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016600" y="5878440"/>
            <a:ext cx="3394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600" spc="-1" strike="noStrike">
                <a:solidFill>
                  <a:srgbClr val="b21a1a"/>
                </a:solidFill>
                <a:latin typeface="Arial"/>
              </a:rPr>
              <a:t>tcd.PeripheralCallKey = 6719114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12480" y="5786280"/>
            <a:ext cx="3200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600" spc="-1" strike="noStrike">
                <a:solidFill>
                  <a:srgbClr val="b21a1a"/>
                </a:solidFill>
                <a:latin typeface="Arial"/>
              </a:rPr>
              <a:t>globalCallID_CallManagerID = 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600" spc="-1" strike="noStrike">
                <a:solidFill>
                  <a:srgbClr val="b21a1a"/>
                </a:solidFill>
                <a:latin typeface="Arial"/>
              </a:rPr>
              <a:t>globalCallID_CallId = 8228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95280" y="1346040"/>
            <a:ext cx="8364600" cy="439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CD.PeripheralCallKe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125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ated by the CallManager Peripher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M.globalCallID_CallManager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125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quely identifies the Cisco CallManager node within a clu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M.globalCallID_Call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125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que call identity value that is assigned to each call independently on each call server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1T00:20:32Z</dcterms:created>
  <dc:creator>paiged</dc:creator>
  <dc:description/>
  <dc:language>en-US</dc:language>
  <cp:lastModifiedBy>paiged</cp:lastModifiedBy>
  <dcterms:modified xsi:type="dcterms:W3CDTF">2007-07-11T00:20:45Z</dcterms:modified>
  <cp:revision>1</cp:revision>
  <dc:subject/>
  <dc:title>Slide 1</dc:title>
</cp:coreProperties>
</file>